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22.jpeg" ContentType="image/jpeg"/>
  <Override PartName="/ppt/media/image3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5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7.jpeg" ContentType="image/jpeg"/>
  <Override PartName="/ppt/media/image28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6.wmf" ContentType="image/x-wmf"/>
  <Override PartName="/ppt/media/image47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48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12.jpeg" ContentType="image/jpeg"/>
  <Override PartName="/ppt/media/image3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6F58-CE2F-4754-A6B2-47E645D714D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2DE2-E65F-4E8F-8D42-41FBB20FE17A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DC12-F900-4A6E-AE48-B66EE1AFF4A4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685B-9B93-4B9A-BF42-A410DD580EB4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7CEF-8ABC-4C61-82FA-EA5D076B1DFA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3E46-1941-4DAD-9D92-76A87EED6CA1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FF62-75F3-4D90-9BBD-37B17F2257D2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与原来比较，就是多了一个试题册背面的信息填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5145-A808-4A2E-B968-B2FD1A6BD0D4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C77D-B41E-4E3A-9AFE-C9A51086A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03BB-BA27-4BFE-8D63-DA5CD8B6E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C169-8E53-42ED-9339-292751858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77E1-C85F-4A0E-A917-FC6BFFA75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CB2B-C4E2-4750-B3C3-6468A42BDB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8CDF-8710-4CC1-84BA-3E7C9720B5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B6C2B-75D1-42D6-A049-7E573A8D66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48D70-F335-4633-9AD0-B4ED93ABC6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1BE86-8D17-4872-A778-B9F492B7CB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005F2-EFAA-43AC-9AA3-1F659E49A1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AF3F-3CE5-4761-9D23-9527ABE04C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274B-F91C-40C1-AEF9-09065E6D5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95FF-36EE-4BE0-BFB9-5480BC4647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D2FE-A984-42FE-ACEC-4CFF185A4C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4D028-0EEB-421F-BA5D-3679491F65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3A913-BBD8-44A2-929A-8352B30396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9062-7960-407B-AECC-B12176BAEA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0990B-91FE-49BB-8388-786DD547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707FC-725D-4022-9E98-6AA7FBD8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2754D-85AB-43B4-ABF3-55C125D0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2D317-9829-4CE9-92F0-790249A5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532D5-02DF-4336-A397-BF89CB34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DD7F-650C-4833-9A44-D819090CB5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DAFDF-F9FE-432B-A9E2-4016403B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364E6-3687-405A-AE35-B6F630BD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8C762-2A67-4D6F-81D7-7CFFEBF9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CCD1D-2A12-4128-A448-E3B4FE3B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53DA0-BA3C-446D-B3FA-0177B9BB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B4FDF-4EB3-4BB5-88BF-77623173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D6C73-3DD3-4D57-9233-A91CFFB8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F2A58-43F0-46FA-BF73-17054E72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75A44-D87A-473C-8D55-7B95EC81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6AF55-44FF-4322-A781-70878116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9F3D-8E8B-47E4-9C60-556F2ED49F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4B0BF-1A55-420E-9344-C4D149D4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3B3AB-A1D0-49CA-9004-023FFE92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95FE3-EDE4-4E25-A663-ABC20349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0F49D-8C33-4B32-9D91-D3ADF8D8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9B6B6-48B3-4DE6-BCBF-9F99C51F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30D45-C2D9-4062-B5E2-D0EE57C8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2116E-AA62-4695-8859-31423D44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B2DBA-F557-406C-A24C-9F878A01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B399F-BDCC-48CA-BCD7-4E1049F8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F7857-AB46-4BE9-80E9-702A0324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054C-E72D-4519-B328-A46AFAC7C81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4FE15-5D24-4580-9486-2CFD6059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75AA7-3937-405D-B300-CA3A0C62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10848-83B1-4A91-93E2-444A1D3E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4D6702-D96A-4266-9B1D-2418E938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3BD99C-604D-4E55-99B8-21ACFE47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AC1D94-ECA0-4D15-83B7-8C118976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0970BA-7697-466C-86A0-F4AA1268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925A1-83BC-4B86-8E09-B6FB6BE6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C5BFB-DB22-45AA-AC9E-DED3BA81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928AE-5BD5-4972-9383-C7104E17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C3FE-35CC-4AF2-8A85-92B3D44408D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85A99-3727-4B8E-AA78-B3F35D49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B935-3B5F-4F28-BABC-5E8D8E79E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5899-85B9-4A97-AF3B-C73329AED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9063-B920-4F7A-950C-10EC2CE50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333A-036F-4D15-BDA4-68DBA39BB20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00400" y="3733920"/>
            <a:ext cx="5943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143E-B736-4BA5-A988-25A817C7D0B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191120"/>
            <a:ext cx="6019920" cy="25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1B6B-6A0C-42E6-B795-E74003CF93F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519F-8B7F-4EDB-A136-6C75A341DBB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43C3-8368-4782-8092-99F25E2A56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A6"/>
          <p:cNvPicPr/>
          <p:nvPr/>
        </p:nvPicPr>
        <p:blipFill>
          <a:blip r:embed="rId2"/>
          <a:stretch/>
        </p:blipFill>
        <p:spPr>
          <a:xfrm>
            <a:off x="0" y="0"/>
            <a:ext cx="9201240" cy="689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112/CET2011&#19979;&#21322;&#24180;&#30417;&#32771;&#20250;PPT/&#22823;&#23398;&#33521;&#35821;&#22235;&#32423;&#32771;&#35797;&#25805;&#20316;&#35268;&#31243;.doc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../112/CET2011&#19979;&#21322;&#24180;&#30417;&#32771;&#20250;PPT/&#27993;&#27743;&#30465;&#22823;&#23398;&#33521;&#35821;&#19977;&#32423;&#30417;&#32771;&#25805;&#20316;&#35268;&#31243;.doc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00360" y="234936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全国大学外语等级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监考培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3719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宋体"/>
                <a:ea typeface="黑体"/>
              </a:rPr>
              <a:t>浙江科技学院 教务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BCD6-EF56-480B-996B-6600FE8D05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注意事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关于证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必须在考生进场的时候检验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有效考试证件：准考证、身份证（或学生证）两证齐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没有证件不允许进入考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考试结束前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分钟提醒考生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关于装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答题卡必须经工作组或督查组当面清点后方能开始装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装订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答题卡按序号（包括缺考）从小到大排列，理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四六级不装订，用提供的封条封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三级需装订，沿装订线下钉，等距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颗钉，以考生信息不外漏为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8A83E-D1E0-4B96-8DA9-B1E81F746C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偶发事件处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作弊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收集违纪材料及证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学生本人在违纪材料上签字，非纸质材料先行收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立即通过巡考、考务人员等联系主考办公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监考教师填写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违规考生情况记录表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违规处理告知书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，对于违规的关键事实详细描述，要求考生签字、两位监考教师签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其他偶发事件立即通过巡考、考务人员等通知主考办公室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65E7A-E48B-499D-9198-D9E7AB1E31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32000" y="1916280"/>
            <a:ext cx="6048360" cy="1944360"/>
          </a:xfrm>
          <a:prstGeom prst="rect">
            <a:avLst/>
          </a:prstGeom>
          <a:solidFill>
            <a:srgbClr val="00ff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全国大学英语</a:t>
            </a:r>
            <a:br>
              <a:rPr sz="5200"/>
            </a:br>
            <a:r>
              <a:rPr b="0" lang="zh-CN" sz="5200" spc="-1" strike="noStrike">
                <a:solidFill>
                  <a:srgbClr val="ff3300"/>
                </a:solidFill>
                <a:latin typeface="Arial"/>
                <a:ea typeface="宋体"/>
              </a:rPr>
              <a:t>四级，六级</a:t>
            </a:r>
            <a:r>
              <a:rPr b="0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监考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 rot="838200">
            <a:off x="5148000" y="4653000"/>
            <a:ext cx="3827520" cy="136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82C45-1F62-46AA-B576-E74049EF5E2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场座位编排及分卷要求（四级与六级相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1413000"/>
            <a:ext cx="6553440" cy="518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1700280"/>
            <a:ext cx="144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讲 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385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385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385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385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385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9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9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3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3564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3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3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3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9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483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483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483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483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483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9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9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9564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9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9564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385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3856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3856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80" y="1484280"/>
            <a:ext cx="2017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考生座位以较合理的“</a:t>
            </a:r>
            <a:r>
              <a:rPr b="1" lang="en-US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S”</a:t>
            </a:r>
            <a:r>
              <a:rPr b="1" lang="zh-CN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形格局来编排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注意每排人数。如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做方便考试结束后监考员按顺序收卷，不慌乱，不出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32360" y="606744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场人数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*8+2*7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36360" y="6480000"/>
            <a:ext cx="3095640" cy="40500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5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B8B08-A950-44EB-A033-1D6DE39B718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5976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级监考流程（上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1557360"/>
            <a:ext cx="3384360" cy="151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准考证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贴条形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95640" y="1773360"/>
            <a:ext cx="194652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作文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15280" y="1773360"/>
            <a:ext cx="252072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做听力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43640" y="3573360"/>
            <a:ext cx="244944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: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结束、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做阅读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24000" y="3573360"/>
            <a:ext cx="35276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: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35280" y="198900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12000" y="2060640"/>
            <a:ext cx="360360" cy="43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 rot="5400000">
            <a:off x="7560360" y="2815920"/>
            <a:ext cx="50508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0800000">
            <a:off x="5724360" y="3933360"/>
            <a:ext cx="573120" cy="358920"/>
          </a:xfrm>
          <a:prstGeom prst="rightArrow">
            <a:avLst>
              <a:gd name="adj1" fmla="val 50000"/>
              <a:gd name="adj2" fmla="val 3992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869000"/>
            <a:ext cx="7848360" cy="1512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听力考试必须等听力指令结束后再收答题卡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考生必须听指令操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题册和答题卡，严禁折叠答题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题卡一定按顺序排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453360"/>
            <a:ext cx="3384720" cy="40464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D334D-CCF1-4E45-BBE5-0E02703F009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08000" y="1557360"/>
            <a:ext cx="3419280" cy="1584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试题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准考证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贴条形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15280" y="1773360"/>
            <a:ext cx="252072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听力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43640" y="3573360"/>
            <a:ext cx="2521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结束、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阅读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64000" y="198900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 rot="5400000">
            <a:off x="7487280" y="2888280"/>
            <a:ext cx="50472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39280" y="834840"/>
            <a:ext cx="5977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六级监考流程（下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5724360" y="3933360"/>
            <a:ext cx="573120" cy="358920"/>
          </a:xfrm>
          <a:prstGeom prst="rightArrow">
            <a:avLst>
              <a:gd name="adj1" fmla="val 50000"/>
              <a:gd name="adj2" fmla="val 3992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3573360"/>
            <a:ext cx="338436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: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95640" y="1773360"/>
            <a:ext cx="194652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作文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12000" y="2060640"/>
            <a:ext cx="360360" cy="43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4941720"/>
            <a:ext cx="7921440" cy="151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听力考试必须等听力指令结束后再收答题卡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考生必须听指令操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题册和答题卡，严禁折叠答题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题卡一定按顺序排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FFE62-932F-4EE9-932F-1F2D089E5B63}" type="slidenum">
              <a:t>15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57200" y="1600200"/>
            <a:ext cx="3394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收卷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249228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按座位号小号在上，大号在下的顺序（包括缺考考生的答题卡与试题册，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  <a:ea typeface="宋体"/>
              </a:rPr>
              <a:t>涂写最后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  <a:ea typeface="宋体"/>
              </a:rPr>
              <a:t>位数，缺考考生的条形码不用揭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整理答题卡。清点无误，签字后上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1"/>
          </p:cNvPr>
          <p:cNvSpPr/>
          <p:nvPr/>
        </p:nvSpPr>
        <p:spPr>
          <a:xfrm>
            <a:off x="1835280" y="4365720"/>
            <a:ext cx="655308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详细见全国大学英语四，六级考试监考须知及流程（纸质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1384560" cy="2206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5BCE7-3CCC-4E91-81E7-B99CD638982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619280" y="1844640"/>
            <a:ext cx="5472000" cy="1584360"/>
          </a:xfrm>
          <a:prstGeom prst="rect">
            <a:avLst/>
          </a:prstGeom>
          <a:solidFill>
            <a:srgbClr val="00ff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浙江省大学英语</a:t>
            </a:r>
            <a:r>
              <a:rPr b="1" lang="zh-CN" sz="5200" spc="-1" strike="noStrike">
                <a:solidFill>
                  <a:srgbClr val="ff3300"/>
                </a:solidFill>
                <a:latin typeface="Arial"/>
                <a:ea typeface="宋体"/>
              </a:rPr>
              <a:t>三级</a:t>
            </a:r>
            <a:r>
              <a:rPr b="1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监考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83FD7-936D-4B7E-B223-987E692D92C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68360" y="1413000"/>
            <a:ext cx="6553440" cy="518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0560" y="1773360"/>
            <a:ext cx="129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讲 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385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385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385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385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385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9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9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3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3564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3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3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3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9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3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483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94836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483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483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483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9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483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9564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9564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9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385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3856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6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3856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1484280"/>
            <a:ext cx="2017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生座位以较合理的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形格局来编排，注意每排人数。如图所示，准考证号码为单数的考生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准考证号码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数的考生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做方便考试结束后监考员按顺序收卷，不慌乱，不出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606744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场人数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*8+2*7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62064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考场座位编排及分卷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028000" y="659772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2010-12-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A810F-D46A-4C3C-B303-7E847CE6C0F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966960" y="1836360"/>
            <a:ext cx="25444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试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2492280"/>
            <a:ext cx="2664000" cy="936720"/>
          </a:xfrm>
          <a:prstGeom prst="wedgeRoundRectCallout">
            <a:avLst>
              <a:gd name="adj1" fmla="val 49703"/>
              <a:gd name="adj2" fmla="val 3406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试卷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 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卷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4221000"/>
            <a:ext cx="2665440" cy="936720"/>
          </a:xfrm>
          <a:prstGeom prst="wedgeRoundRectCallout">
            <a:avLst>
              <a:gd name="adj1" fmla="val 14324"/>
              <a:gd name="adj2" fmla="val -1322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答题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涂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27640" y="2492280"/>
            <a:ext cx="2665440" cy="1079640"/>
          </a:xfrm>
          <a:prstGeom prst="wedgeRoundRectCallout">
            <a:avLst>
              <a:gd name="adj1" fmla="val -50893"/>
              <a:gd name="adj2" fmla="val 2779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试卷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443640" y="4581360"/>
            <a:ext cx="2556000" cy="19688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79134-D29E-4E26-B52A-44201D4BA45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47560" y="351000"/>
            <a:ext cx="77011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培训内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960" y="115884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一、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324000" y="184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960" y="195120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二、领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5"/>
          <p:cNvSpPr/>
          <p:nvPr/>
        </p:nvSpPr>
        <p:spPr>
          <a:xfrm>
            <a:off x="324000" y="2637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960" y="396720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四、监考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324000" y="4653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9960" y="490212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五、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>
            <a:off x="324000" y="558792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9960" y="583884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六、偶发事件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5"/>
          <p:cNvSpPr/>
          <p:nvPr/>
        </p:nvSpPr>
        <p:spPr>
          <a:xfrm>
            <a:off x="324000" y="652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8520" y="292428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三、考场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5"/>
          <p:cNvSpPr/>
          <p:nvPr/>
        </p:nvSpPr>
        <p:spPr>
          <a:xfrm>
            <a:off x="322200" y="361008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C0A93-679C-4038-BE15-C63CECEE27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518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级考试监考流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1700280"/>
            <a:ext cx="4032360" cy="115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试卷一，试卷二，答题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证件号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1773360"/>
            <a:ext cx="24494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开始答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听力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3502080"/>
            <a:ext cx="4464000" cy="107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试卷一，试卷二，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00000" y="4869000"/>
            <a:ext cx="7418520" cy="1295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卷和答题卡，严禁折叠答题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生手机务必上交，违者作弊处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43280" y="2060640"/>
            <a:ext cx="649440" cy="503280"/>
          </a:xfrm>
          <a:prstGeom prst="rightArrow">
            <a:avLst>
              <a:gd name="adj1" fmla="val 50000"/>
              <a:gd name="adj2" fmla="val 3226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 rot="5400000">
            <a:off x="6516000" y="2850840"/>
            <a:ext cx="43164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4B75B-C56F-4C82-BEC0-C73386630A9F}" type="slidenum">
              <a:t>20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39640" y="836640"/>
            <a:ext cx="3322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提醒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764388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生中途不得交卷退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缺考考生的答题卡准考证栏，试题册的得分栏内填写“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缺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字样，并填涂准考证号码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位要填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考员按小号在上，大号在下的顺序整理答题卡和试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1"/>
          </p:cNvPr>
          <p:cNvSpPr/>
          <p:nvPr/>
        </p:nvSpPr>
        <p:spPr>
          <a:xfrm>
            <a:off x="179280" y="5373720"/>
            <a:ext cx="76327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详细见浙江省大学英语三级监考员操作规程（纸质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423200" y="4511520"/>
            <a:ext cx="1541520" cy="20131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77714-79A4-4579-9096-63D1CB4DD9F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403280" y="2492280"/>
            <a:ext cx="6050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和山校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教学区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教学区、图书馆听力接收频率为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8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安吉校区听力频率为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和山校区代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安吉校区代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考试与省考试院互联互通，全程监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27280" y="549360"/>
            <a:ext cx="4032360" cy="194472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特别提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6C785-BFCF-4234-8FFD-6A03CB10FABE}" type="slidenum">
              <a:t>22</a:t>
            </a:fld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018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年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2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月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CET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务工作内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教育部考试中心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2018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年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B44A0-D192-427C-9A5A-729F4E83BE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484000" y="2225520"/>
            <a:ext cx="5256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题型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考试材料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考场操作规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异常情况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关于宣传工作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476360" y="119376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华文中宋"/>
                <a:ea typeface="华文中宋"/>
              </a:rPr>
              <a:t>内     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E8AE10-6C2C-44ED-A7B0-294FD9BECC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3"/>
          <p:cNvSpPr/>
          <p:nvPr/>
        </p:nvSpPr>
        <p:spPr>
          <a:xfrm>
            <a:off x="854640" y="6732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1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题型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913680" y="1179360"/>
            <a:ext cx="23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16c0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四级笔试（</a:t>
            </a:r>
            <a:r>
              <a:rPr b="1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CET4</a:t>
            </a: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826920" y="1755720"/>
          <a:ext cx="7705800" cy="3676680"/>
        </p:xfrm>
        <a:graphic>
          <a:graphicData uri="http://schemas.openxmlformats.org/drawingml/2006/table">
            <a:tbl>
              <a:tblPr/>
              <a:tblGrid>
                <a:gridCol w="1079640"/>
                <a:gridCol w="2594160"/>
                <a:gridCol w="1800000"/>
                <a:gridCol w="1344600"/>
                <a:gridCol w="88740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试卷构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题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文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短篇新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长对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篇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阅读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词汇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词填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长篇阅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匹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仔细阅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多项选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汉译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段落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22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总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TextBox 4"/>
          <p:cNvSpPr/>
          <p:nvPr/>
        </p:nvSpPr>
        <p:spPr>
          <a:xfrm>
            <a:off x="826920" y="60404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选择题均为单选题，错选、不选或多选将不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等腰三角形 18"/>
          <p:cNvSpPr/>
          <p:nvPr/>
        </p:nvSpPr>
        <p:spPr>
          <a:xfrm>
            <a:off x="417600" y="5902200"/>
            <a:ext cx="42372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D4D689-6183-48E9-A155-10FB9E43C1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3"/>
          <p:cNvSpPr/>
          <p:nvPr/>
        </p:nvSpPr>
        <p:spPr>
          <a:xfrm>
            <a:off x="854640" y="6732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1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题型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4"/>
          <p:cNvSpPr/>
          <p:nvPr/>
        </p:nvSpPr>
        <p:spPr>
          <a:xfrm>
            <a:off x="913680" y="1179360"/>
            <a:ext cx="23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16c0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六级笔试（</a:t>
            </a:r>
            <a:r>
              <a:rPr b="1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CET6</a:t>
            </a: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826920" y="1755720"/>
          <a:ext cx="7705800" cy="3676680"/>
        </p:xfrm>
        <a:graphic>
          <a:graphicData uri="http://schemas.openxmlformats.org/drawingml/2006/table">
            <a:tbl>
              <a:tblPr/>
              <a:tblGrid>
                <a:gridCol w="1079640"/>
                <a:gridCol w="2594160"/>
                <a:gridCol w="1800000"/>
                <a:gridCol w="1344600"/>
                <a:gridCol w="88740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试卷构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题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文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长对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听力篇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讲话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报道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讲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阅读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词汇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词填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长篇阅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匹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仔细阅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多项选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段落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22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总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TextBox 4"/>
          <p:cNvSpPr/>
          <p:nvPr/>
        </p:nvSpPr>
        <p:spPr>
          <a:xfrm>
            <a:off x="826920" y="60404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选择题均为单选题，错选、不选或多选将不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8"/>
          <p:cNvSpPr/>
          <p:nvPr/>
        </p:nvSpPr>
        <p:spPr>
          <a:xfrm>
            <a:off x="417600" y="5902200"/>
            <a:ext cx="42372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E38431-04D2-4C6F-BA75-7B4D7F1D21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3"/>
          <p:cNvSpPr/>
          <p:nvPr/>
        </p:nvSpPr>
        <p:spPr>
          <a:xfrm>
            <a:off x="1001160" y="907920"/>
            <a:ext cx="11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考试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900000" y="1527840"/>
            <a:ext cx="7848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CET4/CET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9:00/15:00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试开始，开始下发考试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9:10/15:10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生开始作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11:20/17:25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试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0C4FF-D873-403D-AA67-4AAAE7BCDA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3"/>
          <p:cNvSpPr/>
          <p:nvPr/>
        </p:nvSpPr>
        <p:spPr>
          <a:xfrm>
            <a:off x="1196280" y="692280"/>
            <a:ext cx="3957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2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考试材料说明（以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CET4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为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4"/>
          <p:cNvSpPr/>
          <p:nvPr/>
        </p:nvSpPr>
        <p:spPr>
          <a:xfrm>
            <a:off x="87372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试题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图片 5" descr="试题册正面_201312.jpg"/>
          <p:cNvPicPr/>
          <p:nvPr/>
        </p:nvPicPr>
        <p:blipFill>
          <a:blip r:embed="rId1"/>
          <a:stretch/>
        </p:blipFill>
        <p:spPr>
          <a:xfrm>
            <a:off x="2411280" y="1413000"/>
            <a:ext cx="4105440" cy="5184720"/>
          </a:xfrm>
          <a:prstGeom prst="rect">
            <a:avLst/>
          </a:prstGeom>
          <a:ln w="0">
            <a:noFill/>
          </a:ln>
        </p:spPr>
      </p:pic>
      <p:sp>
        <p:nvSpPr>
          <p:cNvPr id="406" name="TextBox 6"/>
          <p:cNvSpPr/>
          <p:nvPr/>
        </p:nvSpPr>
        <p:spPr>
          <a:xfrm>
            <a:off x="539640" y="20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所有题目均在试题册上，试题册上不得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8"/>
          <p:cNvSpPr/>
          <p:nvPr/>
        </p:nvSpPr>
        <p:spPr>
          <a:xfrm rot="20332800">
            <a:off x="5033880" y="2601720"/>
            <a:ext cx="10828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线形标注 1 10"/>
          <p:cNvSpPr/>
          <p:nvPr/>
        </p:nvSpPr>
        <p:spPr>
          <a:xfrm>
            <a:off x="2843280" y="3500280"/>
            <a:ext cx="3529080" cy="2953080"/>
          </a:xfrm>
          <a:prstGeom prst="borderCallout1">
            <a:avLst>
              <a:gd name="adj1" fmla="val 18750"/>
              <a:gd name="adj2" fmla="val -8333"/>
              <a:gd name="adj3" fmla="val 62944"/>
              <a:gd name="adj4" fmla="val -435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线形标注 2 18"/>
          <p:cNvSpPr/>
          <p:nvPr/>
        </p:nvSpPr>
        <p:spPr>
          <a:xfrm>
            <a:off x="2760840" y="3500280"/>
            <a:ext cx="3600360" cy="295308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30333"/>
              <a:gd name="adj6" fmla="val 99314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6804000" y="4581360"/>
            <a:ext cx="2052720" cy="131364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敬告考生，考生在填写（涂）个人信息并粘贴条形码前须仔细阅读</a:t>
            </a:r>
            <a:r>
              <a:rPr b="1" lang="en-US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,</a:t>
            </a:r>
            <a:r>
              <a:rPr b="1" lang="zh-CN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并按要求完成相关内容</a:t>
            </a: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等腰三角形 18"/>
          <p:cNvSpPr/>
          <p:nvPr/>
        </p:nvSpPr>
        <p:spPr>
          <a:xfrm>
            <a:off x="179280" y="2060640"/>
            <a:ext cx="42408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DD295-D8E4-4F28-B1F4-6890713C08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内容占位符 2"/>
          <p:cNvSpPr/>
          <p:nvPr/>
        </p:nvSpPr>
        <p:spPr>
          <a:xfrm>
            <a:off x="68436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敬告考生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911160" y="2043000"/>
            <a:ext cx="74167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  <a:ea typeface="宋体"/>
              </a:rPr>
              <a:t> </a:t>
            </a: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一．在答题前，请认真完成以下内容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检查试题册背面条形码粘贴条、答题卡的印刷质量，如有问题及时向监考员反应，确认无误后完成以下两点要求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将试题册背面条形码粘贴条揭下后粘贴在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的条形码粘贴框内，并将姓名和准考证号填写在试题册背面相应位置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在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和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指定位置用黑色签字笔填写准考证号、姓名和学校名称，并用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HB-2B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铅笔将对应准考证号的信息点涂黑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二．在考试过程中，请注意以下内容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所有题目必须在答题卡上作答，在试题册上的作答一律无效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在规定时间内依次完成作文、听力、阅读、翻译各部分考试，作答作文期间不得翻阅该试题册。听力录音播放完毕后，请立即停止作答，监考员将立即回收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得到监考员指令后方可继续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作文题内容印在试题册背面，作文题及其他主观题必须用黑色签字笔在答题卡指定区域内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．选择题均为单选题，错选、不选或多选将不得分，作答时必须使用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HB-2B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铅笔在答题卡上相应位置填涂，修改时须用橡皮擦净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三．以下情况按违规处理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正确填写（涂）个人信息，错贴、不贴、毁损条形码粘贴条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按规定翻阅试题册、提前阅读试题、提前或在收答题卡期间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用所规定的笔作答、折叠或毁损答题卡导致无法评卷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试期间在非听力考试时间佩戴耳机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3A8F7-4A0E-4A7E-9347-F3D98E63C1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7200" y="379440"/>
            <a:ext cx="74264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2018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月大学外语等级考试概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1052640"/>
          <a:ext cx="7775640" cy="5849640"/>
        </p:xfrm>
        <a:graphic>
          <a:graphicData uri="http://schemas.openxmlformats.org/drawingml/2006/table">
            <a:tbl>
              <a:tblPr/>
              <a:tblGrid>
                <a:gridCol w="720720"/>
                <a:gridCol w="1004760"/>
                <a:gridCol w="866880"/>
                <a:gridCol w="1152360"/>
                <a:gridCol w="1150920"/>
                <a:gridCol w="1079640"/>
                <a:gridCol w="1008000"/>
                <a:gridCol w="792360"/>
              </a:tblGrid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语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考生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考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试题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答题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卷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9:00-11: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5:00-17: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小和山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68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安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463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小和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37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安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90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49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27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9:00-11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48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1187280" y="342900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47E09-06D2-42BB-B275-2187374EF3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3"/>
          <p:cNvSpPr/>
          <p:nvPr/>
        </p:nvSpPr>
        <p:spPr>
          <a:xfrm>
            <a:off x="441000" y="76500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试题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17"/>
          <p:cNvSpPr/>
          <p:nvPr/>
        </p:nvSpPr>
        <p:spPr>
          <a:xfrm>
            <a:off x="3059280" y="1484280"/>
            <a:ext cx="28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19"/>
          <p:cNvSpPr/>
          <p:nvPr/>
        </p:nvSpPr>
        <p:spPr>
          <a:xfrm>
            <a:off x="3132000" y="1844640"/>
            <a:ext cx="273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21"/>
          <p:cNvSpPr/>
          <p:nvPr/>
        </p:nvSpPr>
        <p:spPr>
          <a:xfrm>
            <a:off x="3059280" y="2133720"/>
            <a:ext cx="165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图片 7" descr="试题册背面_201312_培训.jpg"/>
          <p:cNvPicPr/>
          <p:nvPr/>
        </p:nvPicPr>
        <p:blipFill>
          <a:blip r:embed="rId1"/>
          <a:stretch/>
        </p:blipFill>
        <p:spPr>
          <a:xfrm>
            <a:off x="1692360" y="907920"/>
            <a:ext cx="4883040" cy="5699160"/>
          </a:xfrm>
          <a:prstGeom prst="rect">
            <a:avLst/>
          </a:prstGeom>
          <a:ln w="0">
            <a:noFill/>
          </a:ln>
        </p:spPr>
      </p:pic>
      <p:sp>
        <p:nvSpPr>
          <p:cNvPr id="419" name="矩形 6"/>
          <p:cNvSpPr/>
          <p:nvPr/>
        </p:nvSpPr>
        <p:spPr>
          <a:xfrm rot="20889000">
            <a:off x="5036760" y="2671560"/>
            <a:ext cx="108252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线形标注 2 14"/>
          <p:cNvSpPr/>
          <p:nvPr/>
        </p:nvSpPr>
        <p:spPr>
          <a:xfrm>
            <a:off x="1692360" y="1123920"/>
            <a:ext cx="5040360" cy="2809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4898"/>
              <a:gd name="adj6" fmla="val -1684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5"/>
          <p:cNvSpPr/>
          <p:nvPr/>
        </p:nvSpPr>
        <p:spPr>
          <a:xfrm>
            <a:off x="0" y="213192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题目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直接连接符 25"/>
          <p:cNvSpPr/>
          <p:nvPr/>
        </p:nvSpPr>
        <p:spPr>
          <a:xfrm>
            <a:off x="2484360" y="1508040"/>
            <a:ext cx="30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直接箭头连接符 33"/>
          <p:cNvCxnSpPr/>
          <p:nvPr/>
        </p:nvCxnSpPr>
        <p:spPr>
          <a:xfrm>
            <a:off x="4068360" y="1484280"/>
            <a:ext cx="1080" cy="28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24" name="TextBox 15"/>
          <p:cNvSpPr/>
          <p:nvPr/>
        </p:nvSpPr>
        <p:spPr>
          <a:xfrm>
            <a:off x="2135160" y="1771560"/>
            <a:ext cx="424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提示考生作文作答时间为半小时，之后将立即进行听力考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线形标注 2 16"/>
          <p:cNvSpPr/>
          <p:nvPr/>
        </p:nvSpPr>
        <p:spPr>
          <a:xfrm>
            <a:off x="1692360" y="4292640"/>
            <a:ext cx="3456000" cy="2017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7314"/>
              <a:gd name="adj6" fmla="val -25601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7"/>
          <p:cNvSpPr/>
          <p:nvPr/>
        </p:nvSpPr>
        <p:spPr>
          <a:xfrm>
            <a:off x="0" y="5086440"/>
            <a:ext cx="1655640" cy="33732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个人信息填涂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线形标注 2 18"/>
          <p:cNvSpPr/>
          <p:nvPr/>
        </p:nvSpPr>
        <p:spPr>
          <a:xfrm>
            <a:off x="5327640" y="4365720"/>
            <a:ext cx="973080" cy="187164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29125"/>
              <a:gd name="adj6" fmla="val 9821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9"/>
          <p:cNvSpPr/>
          <p:nvPr/>
        </p:nvSpPr>
        <p:spPr>
          <a:xfrm>
            <a:off x="6732720" y="5589720"/>
            <a:ext cx="172872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条形码粘贴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直接箭头连接符 46"/>
          <p:cNvCxnSpPr/>
          <p:nvPr/>
        </p:nvCxnSpPr>
        <p:spPr>
          <a:xfrm>
            <a:off x="7956360" y="2347560"/>
            <a:ext cx="108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0" name="TextBox 15"/>
          <p:cNvSpPr/>
          <p:nvPr/>
        </p:nvSpPr>
        <p:spPr>
          <a:xfrm>
            <a:off x="7021440" y="2637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条形码粘贴条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2" descr="C:\Users\Administrator\AppData\Roaming\Tencent\Users\58445695\QQ\WinTemp\RichOle\}VEQPR1E8W6996{3O4U3V{X.jpg"/>
          <p:cNvPicPr/>
          <p:nvPr/>
        </p:nvPicPr>
        <p:blipFill>
          <a:blip r:embed="rId2"/>
          <a:stretch/>
        </p:blipFill>
        <p:spPr>
          <a:xfrm>
            <a:off x="6875640" y="1268280"/>
            <a:ext cx="208908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667598-5E12-490C-AD91-6AB13A6125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矩形 3"/>
          <p:cNvSpPr/>
          <p:nvPr/>
        </p:nvSpPr>
        <p:spPr>
          <a:xfrm>
            <a:off x="39564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611280" y="1413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作文题与听力题在答题卡</a:t>
            </a:r>
            <a:r>
              <a:rPr b="1" lang="en-US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上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图片 5" descr="2013L089-大学英语4级卡1_页面_1.jpg"/>
          <p:cNvPicPr/>
          <p:nvPr/>
        </p:nvPicPr>
        <p:blipFill>
          <a:blip r:embed="rId1"/>
          <a:stretch/>
        </p:blipFill>
        <p:spPr>
          <a:xfrm>
            <a:off x="2700360" y="620640"/>
            <a:ext cx="4333680" cy="5781600"/>
          </a:xfrm>
          <a:prstGeom prst="rect">
            <a:avLst/>
          </a:prstGeom>
          <a:ln w="0">
            <a:noFill/>
          </a:ln>
        </p:spPr>
      </p:pic>
      <p:sp>
        <p:nvSpPr>
          <p:cNvPr id="435" name="线形标注 2 14"/>
          <p:cNvSpPr/>
          <p:nvPr/>
        </p:nvSpPr>
        <p:spPr>
          <a:xfrm>
            <a:off x="3708360" y="1484280"/>
            <a:ext cx="1224000" cy="64944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98388"/>
              <a:gd name="adj6" fmla="val 280888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5"/>
          <p:cNvSpPr/>
          <p:nvPr/>
        </p:nvSpPr>
        <p:spPr>
          <a:xfrm>
            <a:off x="7164360" y="213372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条形码粘贴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8"/>
          <p:cNvSpPr/>
          <p:nvPr/>
        </p:nvSpPr>
        <p:spPr>
          <a:xfrm rot="20332800">
            <a:off x="4181400" y="3752640"/>
            <a:ext cx="108108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线形标注 2 14"/>
          <p:cNvSpPr/>
          <p:nvPr/>
        </p:nvSpPr>
        <p:spPr>
          <a:xfrm>
            <a:off x="2700360" y="2565360"/>
            <a:ext cx="4103640" cy="338472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5"/>
          <p:cNvSpPr/>
          <p:nvPr/>
        </p:nvSpPr>
        <p:spPr>
          <a:xfrm>
            <a:off x="7380360" y="486900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直接箭头连接符 13"/>
          <p:cNvCxnSpPr/>
          <p:nvPr/>
        </p:nvCxnSpPr>
        <p:spPr>
          <a:xfrm flipH="1">
            <a:off x="1331280" y="2349360"/>
            <a:ext cx="1369080" cy="1656720"/>
          </a:xfrm>
          <a:prstGeom prst="straightConnector1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441" name="矩形 15"/>
          <p:cNvSpPr/>
          <p:nvPr/>
        </p:nvSpPr>
        <p:spPr>
          <a:xfrm>
            <a:off x="324000" y="4005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再次提示考生作文作答时间为半小时，之后立即进行听力考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等腰三角形 18"/>
          <p:cNvSpPr/>
          <p:nvPr/>
        </p:nvSpPr>
        <p:spPr>
          <a:xfrm>
            <a:off x="179280" y="1413000"/>
            <a:ext cx="424080" cy="576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31414A-FBCD-4455-9259-9EFB4D427B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4113360" cy="5832360"/>
          </a:xfrm>
          <a:prstGeom prst="rect">
            <a:avLst/>
          </a:prstGeom>
          <a:ln w="0">
            <a:noFill/>
          </a:ln>
        </p:spPr>
      </p:pic>
      <p:sp>
        <p:nvSpPr>
          <p:cNvPr id="445" name="矩形 6"/>
          <p:cNvSpPr/>
          <p:nvPr/>
        </p:nvSpPr>
        <p:spPr>
          <a:xfrm rot="20332800">
            <a:off x="4181400" y="2601720"/>
            <a:ext cx="10810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线形标注 2 14"/>
          <p:cNvSpPr/>
          <p:nvPr/>
        </p:nvSpPr>
        <p:spPr>
          <a:xfrm>
            <a:off x="2700360" y="1197000"/>
            <a:ext cx="4103640" cy="2448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5"/>
          <p:cNvSpPr/>
          <p:nvPr/>
        </p:nvSpPr>
        <p:spPr>
          <a:xfrm>
            <a:off x="7308720" y="285264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线形标注 2 14"/>
          <p:cNvSpPr/>
          <p:nvPr/>
        </p:nvSpPr>
        <p:spPr>
          <a:xfrm>
            <a:off x="2700360" y="4005360"/>
            <a:ext cx="4103640" cy="237636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5"/>
          <p:cNvSpPr/>
          <p:nvPr/>
        </p:nvSpPr>
        <p:spPr>
          <a:xfrm>
            <a:off x="7236000" y="5661000"/>
            <a:ext cx="161892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听力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直接箭头连接符 12"/>
          <p:cNvCxnSpPr/>
          <p:nvPr/>
        </p:nvCxnSpPr>
        <p:spPr>
          <a:xfrm flipH="1" flipV="1">
            <a:off x="1618920" y="3284280"/>
            <a:ext cx="1224720" cy="505440"/>
          </a:xfrm>
          <a:prstGeom prst="straightConnector1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451" name="矩形 14"/>
          <p:cNvSpPr/>
          <p:nvPr/>
        </p:nvSpPr>
        <p:spPr>
          <a:xfrm>
            <a:off x="324000" y="242100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示考生听力录音播放完毕后，监考教师将立即回收答题卡</a:t>
            </a:r>
            <a:r>
              <a:rPr b="1" lang="en-US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504C9B-4906-4A11-965D-393ECE9DEB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图片 11" descr="2013L090-大学英语4级卡2_页面_1_after.jpg"/>
          <p:cNvPicPr/>
          <p:nvPr/>
        </p:nvPicPr>
        <p:blipFill>
          <a:blip r:embed="rId1"/>
          <a:stretch/>
        </p:blipFill>
        <p:spPr>
          <a:xfrm>
            <a:off x="2484360" y="692280"/>
            <a:ext cx="3902040" cy="5599080"/>
          </a:xfrm>
          <a:prstGeom prst="rect">
            <a:avLst/>
          </a:prstGeom>
          <a:ln w="0">
            <a:noFill/>
          </a:ln>
        </p:spPr>
      </p:pic>
      <p:sp>
        <p:nvSpPr>
          <p:cNvPr id="454" name="矩形 8"/>
          <p:cNvSpPr/>
          <p:nvPr/>
        </p:nvSpPr>
        <p:spPr>
          <a:xfrm rot="20332800">
            <a:off x="4973760" y="3104640"/>
            <a:ext cx="10810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4"/>
          <p:cNvSpPr/>
          <p:nvPr/>
        </p:nvSpPr>
        <p:spPr>
          <a:xfrm>
            <a:off x="611280" y="1413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阅读和翻译题目在答题卡</a:t>
            </a:r>
            <a:r>
              <a:rPr b="1" lang="en-US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上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线形标注 2 14"/>
          <p:cNvSpPr/>
          <p:nvPr/>
        </p:nvSpPr>
        <p:spPr>
          <a:xfrm>
            <a:off x="2627280" y="2421000"/>
            <a:ext cx="3600360" cy="338436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5"/>
          <p:cNvSpPr/>
          <p:nvPr/>
        </p:nvSpPr>
        <p:spPr>
          <a:xfrm>
            <a:off x="6804000" y="472428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阅读作答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等腰三角形 18"/>
          <p:cNvSpPr/>
          <p:nvPr/>
        </p:nvSpPr>
        <p:spPr>
          <a:xfrm>
            <a:off x="216000" y="1341360"/>
            <a:ext cx="423720" cy="574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4"/>
          <p:cNvSpPr/>
          <p:nvPr/>
        </p:nvSpPr>
        <p:spPr>
          <a:xfrm>
            <a:off x="324000" y="292428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在得到监考员指令后，方可在答题卡</a:t>
            </a:r>
            <a:r>
              <a:rPr b="1" lang="en-US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进行作答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125941-04C2-4094-8360-66BDCA78DA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2486160" y="504720"/>
            <a:ext cx="4171680" cy="5848560"/>
          </a:xfrm>
          <a:prstGeom prst="rect">
            <a:avLst/>
          </a:prstGeom>
          <a:ln w="0">
            <a:noFill/>
          </a:ln>
        </p:spPr>
      </p:pic>
      <p:sp>
        <p:nvSpPr>
          <p:cNvPr id="462" name="矩形 6"/>
          <p:cNvSpPr/>
          <p:nvPr/>
        </p:nvSpPr>
        <p:spPr>
          <a:xfrm rot="20332800">
            <a:off x="4037040" y="2601720"/>
            <a:ext cx="10810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线形标注 2 14"/>
          <p:cNvSpPr/>
          <p:nvPr/>
        </p:nvSpPr>
        <p:spPr>
          <a:xfrm>
            <a:off x="2411280" y="1125360"/>
            <a:ext cx="4392720" cy="4896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59814"/>
              <a:gd name="adj6" fmla="val 13716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5"/>
          <p:cNvSpPr/>
          <p:nvPr/>
        </p:nvSpPr>
        <p:spPr>
          <a:xfrm>
            <a:off x="7380360" y="4076640"/>
            <a:ext cx="143964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翻译作答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18C900-A9F8-4233-9E31-9007888E23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矩形 3"/>
          <p:cNvSpPr/>
          <p:nvPr/>
        </p:nvSpPr>
        <p:spPr>
          <a:xfrm>
            <a:off x="790200" y="83664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3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考场操作规程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3"/>
          <p:cNvSpPr/>
          <p:nvPr/>
        </p:nvSpPr>
        <p:spPr>
          <a:xfrm>
            <a:off x="574920" y="1341360"/>
            <a:ext cx="41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8:45/14:45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5"/>
          <p:cNvSpPr/>
          <p:nvPr/>
        </p:nvSpPr>
        <p:spPr>
          <a:xfrm>
            <a:off x="971640" y="1844640"/>
            <a:ext cx="8172360" cy="27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入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出示身份证、学生证、准考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核对考生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考生证件、禁止考生携带违禁物品进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1EE491-0FA8-4DC8-AFA9-79FF20C9FA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矩形 3"/>
          <p:cNvSpPr/>
          <p:nvPr/>
        </p:nvSpPr>
        <p:spPr>
          <a:xfrm>
            <a:off x="646560" y="819000"/>
            <a:ext cx="41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9:00/15:0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"/>
          <p:cNvSpPr/>
          <p:nvPr/>
        </p:nvSpPr>
        <p:spPr>
          <a:xfrm>
            <a:off x="826920" y="1265400"/>
            <a:ext cx="788688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下发考试材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发试题册、答题卡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答题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考生阅读试题册正面“敬告考生”内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考生检查试题册、答题卡的印刷质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指导考生粘贴条形码及填写个人信息情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阅读敬告考生内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条形码、答题卡的印刷质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粘贴条形码、填写个人信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非听力考试期间考生不得佩戴耳机且不得提前翻     试题册，否则按违规处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00"/>
                </a:solidFill>
                <a:latin typeface="华文中宋"/>
                <a:ea typeface="华文中宋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等腰三角形 18"/>
          <p:cNvSpPr/>
          <p:nvPr/>
        </p:nvSpPr>
        <p:spPr>
          <a:xfrm>
            <a:off x="1042920" y="6021360"/>
            <a:ext cx="424080" cy="5745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1619280" y="612936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华文中宋"/>
                <a:ea typeface="华文中宋"/>
              </a:rPr>
              <a:t>禁止迟到考生入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248B5-53E5-42A3-A3AF-F346428393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468360" y="2276640"/>
            <a:ext cx="1022400" cy="9363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7"/>
          <p:cNvSpPr/>
          <p:nvPr/>
        </p:nvSpPr>
        <p:spPr>
          <a:xfrm>
            <a:off x="468360" y="342900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8"/>
          <p:cNvSpPr/>
          <p:nvPr/>
        </p:nvSpPr>
        <p:spPr>
          <a:xfrm>
            <a:off x="2195640" y="1736640"/>
            <a:ext cx="72072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试题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9"/>
          <p:cNvSpPr/>
          <p:nvPr/>
        </p:nvSpPr>
        <p:spPr>
          <a:xfrm>
            <a:off x="2195640" y="2817720"/>
            <a:ext cx="720720" cy="647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答题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0"/>
          <p:cNvSpPr/>
          <p:nvPr/>
        </p:nvSpPr>
        <p:spPr>
          <a:xfrm>
            <a:off x="2195640" y="3968640"/>
            <a:ext cx="720720" cy="64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答题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4572000" y="2421000"/>
            <a:ext cx="1023840" cy="888840"/>
          </a:xfrm>
          <a:prstGeom prst="rect">
            <a:avLst/>
          </a:prstGeom>
          <a:ln w="0">
            <a:noFill/>
          </a:ln>
        </p:spPr>
      </p:pic>
      <p:sp>
        <p:nvSpPr>
          <p:cNvPr id="478" name="TextBox 12"/>
          <p:cNvSpPr/>
          <p:nvPr/>
        </p:nvSpPr>
        <p:spPr>
          <a:xfrm>
            <a:off x="4643280" y="35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考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直接箭头连接符 14"/>
          <p:cNvCxnSpPr>
            <a:stCxn id="474" idx="3"/>
          </p:cNvCxnSpPr>
          <p:nvPr/>
        </p:nvCxnSpPr>
        <p:spPr>
          <a:xfrm>
            <a:off x="2916000" y="2060280"/>
            <a:ext cx="1656360" cy="4323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80" name="直接箭头连接符 16"/>
          <p:cNvCxnSpPr>
            <a:stCxn id="475" idx="3"/>
          </p:cNvCxnSpPr>
          <p:nvPr/>
        </p:nvCxnSpPr>
        <p:spPr>
          <a:xfrm flipV="1">
            <a:off x="2916000" y="2923920"/>
            <a:ext cx="1585080" cy="218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81" name="直接箭头连接符 19"/>
          <p:cNvCxnSpPr/>
          <p:nvPr/>
        </p:nvCxnSpPr>
        <p:spPr>
          <a:xfrm flipV="1">
            <a:off x="2916000" y="3283920"/>
            <a:ext cx="1585080" cy="937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82" name="TextBox 24"/>
          <p:cNvSpPr/>
          <p:nvPr/>
        </p:nvSpPr>
        <p:spPr>
          <a:xfrm>
            <a:off x="6300720" y="2133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阅读试题册正面的敬告考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按要求填写（涂）试题册背面、答题卡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上的个人信息，并粘贴条形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右箭头 25"/>
          <p:cNvSpPr/>
          <p:nvPr/>
        </p:nvSpPr>
        <p:spPr>
          <a:xfrm>
            <a:off x="5580000" y="278136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1A085C-2087-47C7-90BE-75E7190DC1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3" descr="C:\Users\Administrator\AppData\Roaming\Tencent\Users\2411221069\QQ\WinTemp\RichOle\1I3E@SYCU3(B~66%1$YMZKV.jpg"/>
          <p:cNvPicPr/>
          <p:nvPr/>
        </p:nvPicPr>
        <p:blipFill>
          <a:blip r:embed="rId1"/>
          <a:stretch/>
        </p:blipFill>
        <p:spPr>
          <a:xfrm>
            <a:off x="468360" y="765000"/>
            <a:ext cx="744480" cy="648000"/>
          </a:xfrm>
          <a:prstGeom prst="rect">
            <a:avLst/>
          </a:prstGeom>
          <a:ln w="0">
            <a:noFill/>
          </a:ln>
        </p:spPr>
      </p:pic>
      <p:sp>
        <p:nvSpPr>
          <p:cNvPr id="485" name="TextBox 6"/>
          <p:cNvSpPr/>
          <p:nvPr/>
        </p:nvSpPr>
        <p:spPr>
          <a:xfrm>
            <a:off x="1403280" y="9079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考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27"/>
          <p:cNvSpPr/>
          <p:nvPr/>
        </p:nvSpPr>
        <p:spPr>
          <a:xfrm>
            <a:off x="2303640" y="981000"/>
            <a:ext cx="65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填写（涂）答题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及试题册背面的准考证号和姓名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4211640" y="1628640"/>
            <a:ext cx="4740120" cy="1871640"/>
          </a:xfrm>
          <a:prstGeom prst="rect">
            <a:avLst/>
          </a:prstGeom>
          <a:ln w="0">
            <a:noFill/>
          </a:ln>
        </p:spPr>
      </p:pic>
      <p:sp>
        <p:nvSpPr>
          <p:cNvPr id="488" name="TextBox 30"/>
          <p:cNvSpPr/>
          <p:nvPr/>
        </p:nvSpPr>
        <p:spPr>
          <a:xfrm>
            <a:off x="664848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32"/>
          <p:cNvSpPr/>
          <p:nvPr/>
        </p:nvSpPr>
        <p:spPr>
          <a:xfrm>
            <a:off x="676764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3"/>
          <p:cNvSpPr/>
          <p:nvPr/>
        </p:nvSpPr>
        <p:spPr>
          <a:xfrm>
            <a:off x="689616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34"/>
          <p:cNvSpPr/>
          <p:nvPr/>
        </p:nvSpPr>
        <p:spPr>
          <a:xfrm>
            <a:off x="7029360" y="2255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35"/>
          <p:cNvSpPr/>
          <p:nvPr/>
        </p:nvSpPr>
        <p:spPr>
          <a:xfrm>
            <a:off x="714852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36"/>
          <p:cNvSpPr/>
          <p:nvPr/>
        </p:nvSpPr>
        <p:spPr>
          <a:xfrm>
            <a:off x="730872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37"/>
          <p:cNvSpPr/>
          <p:nvPr/>
        </p:nvSpPr>
        <p:spPr>
          <a:xfrm>
            <a:off x="7440480" y="22557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8"/>
          <p:cNvSpPr/>
          <p:nvPr/>
        </p:nvSpPr>
        <p:spPr>
          <a:xfrm>
            <a:off x="756612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9"/>
          <p:cNvSpPr/>
          <p:nvPr/>
        </p:nvSpPr>
        <p:spPr>
          <a:xfrm>
            <a:off x="7688160" y="22543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40"/>
          <p:cNvSpPr/>
          <p:nvPr/>
        </p:nvSpPr>
        <p:spPr>
          <a:xfrm>
            <a:off x="783756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1"/>
          <p:cNvSpPr/>
          <p:nvPr/>
        </p:nvSpPr>
        <p:spPr>
          <a:xfrm>
            <a:off x="796464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2"/>
          <p:cNvSpPr/>
          <p:nvPr/>
        </p:nvSpPr>
        <p:spPr>
          <a:xfrm>
            <a:off x="8101080" y="2255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3"/>
          <p:cNvSpPr/>
          <p:nvPr/>
        </p:nvSpPr>
        <p:spPr>
          <a:xfrm>
            <a:off x="8220240" y="2254320"/>
            <a:ext cx="1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44"/>
          <p:cNvSpPr/>
          <p:nvPr/>
        </p:nvSpPr>
        <p:spPr>
          <a:xfrm>
            <a:off x="835812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5"/>
          <p:cNvSpPr/>
          <p:nvPr/>
        </p:nvSpPr>
        <p:spPr>
          <a:xfrm>
            <a:off x="8483760" y="2255760"/>
            <a:ext cx="1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7"/>
          <p:cNvSpPr/>
          <p:nvPr/>
        </p:nvSpPr>
        <p:spPr>
          <a:xfrm>
            <a:off x="4500720" y="220500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48"/>
          <p:cNvSpPr/>
          <p:nvPr/>
        </p:nvSpPr>
        <p:spPr>
          <a:xfrm>
            <a:off x="4572000" y="2565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4" descr="C:\Users\Administrator\AppData\Roaming\Tencent\Users\58445695\QQ\WinTemp\RichOle\DFVUN(`$@5_AA{(6@~EK}(3.jpg"/>
          <p:cNvPicPr/>
          <p:nvPr/>
        </p:nvPicPr>
        <p:blipFill>
          <a:blip r:embed="rId3"/>
          <a:stretch/>
        </p:blipFill>
        <p:spPr>
          <a:xfrm>
            <a:off x="4211640" y="4005360"/>
            <a:ext cx="4753080" cy="1952640"/>
          </a:xfrm>
          <a:prstGeom prst="rect">
            <a:avLst/>
          </a:prstGeom>
          <a:ln w="0">
            <a:noFill/>
          </a:ln>
        </p:spPr>
      </p:pic>
      <p:sp>
        <p:nvSpPr>
          <p:cNvPr id="506" name="TextBox 50"/>
          <p:cNvSpPr/>
          <p:nvPr/>
        </p:nvSpPr>
        <p:spPr>
          <a:xfrm>
            <a:off x="665496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51"/>
          <p:cNvSpPr/>
          <p:nvPr/>
        </p:nvSpPr>
        <p:spPr>
          <a:xfrm>
            <a:off x="6773760" y="4619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52"/>
          <p:cNvSpPr/>
          <p:nvPr/>
        </p:nvSpPr>
        <p:spPr>
          <a:xfrm>
            <a:off x="6900840" y="46274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3"/>
          <p:cNvSpPr/>
          <p:nvPr/>
        </p:nvSpPr>
        <p:spPr>
          <a:xfrm>
            <a:off x="7034040" y="46245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715320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7313760" y="4619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7446960" y="46134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57"/>
          <p:cNvSpPr/>
          <p:nvPr/>
        </p:nvSpPr>
        <p:spPr>
          <a:xfrm>
            <a:off x="7572240" y="46162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8"/>
          <p:cNvSpPr/>
          <p:nvPr/>
        </p:nvSpPr>
        <p:spPr>
          <a:xfrm>
            <a:off x="7693200" y="46162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9"/>
          <p:cNvSpPr/>
          <p:nvPr/>
        </p:nvSpPr>
        <p:spPr>
          <a:xfrm>
            <a:off x="7843680" y="4622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60"/>
          <p:cNvSpPr/>
          <p:nvPr/>
        </p:nvSpPr>
        <p:spPr>
          <a:xfrm>
            <a:off x="7970760" y="46245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61"/>
          <p:cNvSpPr/>
          <p:nvPr/>
        </p:nvSpPr>
        <p:spPr>
          <a:xfrm>
            <a:off x="8105760" y="4621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62"/>
          <p:cNvSpPr/>
          <p:nvPr/>
        </p:nvSpPr>
        <p:spPr>
          <a:xfrm>
            <a:off x="822492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63"/>
          <p:cNvSpPr/>
          <p:nvPr/>
        </p:nvSpPr>
        <p:spPr>
          <a:xfrm>
            <a:off x="8362800" y="46245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64"/>
          <p:cNvSpPr/>
          <p:nvPr/>
        </p:nvSpPr>
        <p:spPr>
          <a:xfrm>
            <a:off x="848844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65"/>
          <p:cNvSpPr/>
          <p:nvPr/>
        </p:nvSpPr>
        <p:spPr>
          <a:xfrm>
            <a:off x="4788000" y="4869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66"/>
          <p:cNvSpPr/>
          <p:nvPr/>
        </p:nvSpPr>
        <p:spPr>
          <a:xfrm>
            <a:off x="4788000" y="544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67"/>
          <p:cNvSpPr/>
          <p:nvPr/>
        </p:nvSpPr>
        <p:spPr>
          <a:xfrm>
            <a:off x="6710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68"/>
          <p:cNvSpPr/>
          <p:nvPr/>
        </p:nvSpPr>
        <p:spPr>
          <a:xfrm>
            <a:off x="6845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69"/>
          <p:cNvSpPr/>
          <p:nvPr/>
        </p:nvSpPr>
        <p:spPr>
          <a:xfrm>
            <a:off x="6980400" y="48402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70"/>
          <p:cNvSpPr/>
          <p:nvPr/>
        </p:nvSpPr>
        <p:spPr>
          <a:xfrm>
            <a:off x="71136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71"/>
          <p:cNvSpPr/>
          <p:nvPr/>
        </p:nvSpPr>
        <p:spPr>
          <a:xfrm>
            <a:off x="725472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72"/>
          <p:cNvSpPr/>
          <p:nvPr/>
        </p:nvSpPr>
        <p:spPr>
          <a:xfrm>
            <a:off x="7381800" y="48387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73"/>
          <p:cNvSpPr/>
          <p:nvPr/>
        </p:nvSpPr>
        <p:spPr>
          <a:xfrm>
            <a:off x="7507440" y="49356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74"/>
          <p:cNvSpPr/>
          <p:nvPr/>
        </p:nvSpPr>
        <p:spPr>
          <a:xfrm>
            <a:off x="7643880" y="5151600"/>
            <a:ext cx="108000" cy="5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75"/>
          <p:cNvSpPr/>
          <p:nvPr/>
        </p:nvSpPr>
        <p:spPr>
          <a:xfrm>
            <a:off x="7765920" y="5051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76"/>
          <p:cNvSpPr/>
          <p:nvPr/>
        </p:nvSpPr>
        <p:spPr>
          <a:xfrm>
            <a:off x="7900920" y="5051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77"/>
          <p:cNvSpPr/>
          <p:nvPr/>
        </p:nvSpPr>
        <p:spPr>
          <a:xfrm>
            <a:off x="8045280" y="4835520"/>
            <a:ext cx="1098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78"/>
          <p:cNvSpPr/>
          <p:nvPr/>
        </p:nvSpPr>
        <p:spPr>
          <a:xfrm>
            <a:off x="817416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79"/>
          <p:cNvSpPr/>
          <p:nvPr/>
        </p:nvSpPr>
        <p:spPr>
          <a:xfrm>
            <a:off x="8305920" y="482904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80"/>
          <p:cNvSpPr/>
          <p:nvPr/>
        </p:nvSpPr>
        <p:spPr>
          <a:xfrm>
            <a:off x="8437680" y="482904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81"/>
          <p:cNvSpPr/>
          <p:nvPr/>
        </p:nvSpPr>
        <p:spPr>
          <a:xfrm>
            <a:off x="8564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67"/>
          <p:cNvSpPr/>
          <p:nvPr/>
        </p:nvSpPr>
        <p:spPr>
          <a:xfrm>
            <a:off x="66801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68"/>
          <p:cNvSpPr/>
          <p:nvPr/>
        </p:nvSpPr>
        <p:spPr>
          <a:xfrm>
            <a:off x="68151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69"/>
          <p:cNvSpPr/>
          <p:nvPr/>
        </p:nvSpPr>
        <p:spPr>
          <a:xfrm>
            <a:off x="6950160" y="2470320"/>
            <a:ext cx="108000" cy="5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70"/>
          <p:cNvSpPr/>
          <p:nvPr/>
        </p:nvSpPr>
        <p:spPr>
          <a:xfrm>
            <a:off x="70833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71"/>
          <p:cNvSpPr/>
          <p:nvPr/>
        </p:nvSpPr>
        <p:spPr>
          <a:xfrm>
            <a:off x="722484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72"/>
          <p:cNvSpPr/>
          <p:nvPr/>
        </p:nvSpPr>
        <p:spPr>
          <a:xfrm>
            <a:off x="7351560" y="2468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73"/>
          <p:cNvSpPr/>
          <p:nvPr/>
        </p:nvSpPr>
        <p:spPr>
          <a:xfrm>
            <a:off x="747720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4"/>
          <p:cNvSpPr/>
          <p:nvPr/>
        </p:nvSpPr>
        <p:spPr>
          <a:xfrm>
            <a:off x="7613640" y="2781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75"/>
          <p:cNvSpPr/>
          <p:nvPr/>
        </p:nvSpPr>
        <p:spPr>
          <a:xfrm>
            <a:off x="7740720" y="2654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76"/>
          <p:cNvSpPr/>
          <p:nvPr/>
        </p:nvSpPr>
        <p:spPr>
          <a:xfrm>
            <a:off x="7875720" y="265428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77"/>
          <p:cNvSpPr/>
          <p:nvPr/>
        </p:nvSpPr>
        <p:spPr>
          <a:xfrm>
            <a:off x="8015400" y="2465280"/>
            <a:ext cx="1094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78"/>
          <p:cNvSpPr/>
          <p:nvPr/>
        </p:nvSpPr>
        <p:spPr>
          <a:xfrm>
            <a:off x="814392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79"/>
          <p:cNvSpPr/>
          <p:nvPr/>
        </p:nvSpPr>
        <p:spPr>
          <a:xfrm>
            <a:off x="8275680" y="24591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80"/>
          <p:cNvSpPr/>
          <p:nvPr/>
        </p:nvSpPr>
        <p:spPr>
          <a:xfrm>
            <a:off x="8407440" y="24591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81"/>
          <p:cNvSpPr/>
          <p:nvPr/>
        </p:nvSpPr>
        <p:spPr>
          <a:xfrm>
            <a:off x="853452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图片 72" descr="试题册背面_201312_培训_人名.jpg"/>
          <p:cNvPicPr/>
          <p:nvPr/>
        </p:nvPicPr>
        <p:blipFill>
          <a:blip r:embed="rId4"/>
          <a:stretch/>
        </p:blipFill>
        <p:spPr>
          <a:xfrm>
            <a:off x="324000" y="1700280"/>
            <a:ext cx="3714480" cy="43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A8F6E5-381F-445C-96DE-1BA304B1040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3" descr="C:\Users\Administrator\AppData\Roaming\Tencent\Users\2411221069\QQ\WinTemp\RichOle\1I3E@SYCU3(B~66%1$YMZKV.jpg"/>
          <p:cNvPicPr/>
          <p:nvPr/>
        </p:nvPicPr>
        <p:blipFill>
          <a:blip r:embed="rId1"/>
          <a:stretch/>
        </p:blipFill>
        <p:spPr>
          <a:xfrm>
            <a:off x="468360" y="765000"/>
            <a:ext cx="744480" cy="648000"/>
          </a:xfrm>
          <a:prstGeom prst="rect">
            <a:avLst/>
          </a:prstGeom>
          <a:ln w="0">
            <a:noFill/>
          </a:ln>
        </p:spPr>
      </p:pic>
      <p:sp>
        <p:nvSpPr>
          <p:cNvPr id="555" name="TextBox 6"/>
          <p:cNvSpPr/>
          <p:nvPr/>
        </p:nvSpPr>
        <p:spPr>
          <a:xfrm>
            <a:off x="1403280" y="9079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考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7"/>
          <p:cNvSpPr/>
          <p:nvPr/>
        </p:nvSpPr>
        <p:spPr>
          <a:xfrm>
            <a:off x="2124000" y="981000"/>
            <a:ext cx="70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将试题册背面条形码粘贴条粘贴至答题卡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条形码粘贴框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4140360" y="3068640"/>
            <a:ext cx="4740120" cy="1873080"/>
          </a:xfrm>
          <a:prstGeom prst="rect">
            <a:avLst/>
          </a:prstGeom>
          <a:ln w="0">
            <a:noFill/>
          </a:ln>
        </p:spPr>
      </p:pic>
      <p:sp>
        <p:nvSpPr>
          <p:cNvPr id="558" name="TextBox 30"/>
          <p:cNvSpPr/>
          <p:nvPr/>
        </p:nvSpPr>
        <p:spPr>
          <a:xfrm>
            <a:off x="6576840" y="3692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2"/>
          <p:cNvSpPr/>
          <p:nvPr/>
        </p:nvSpPr>
        <p:spPr>
          <a:xfrm>
            <a:off x="6696000" y="36878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3"/>
          <p:cNvSpPr/>
          <p:nvPr/>
        </p:nvSpPr>
        <p:spPr>
          <a:xfrm>
            <a:off x="6823080" y="369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4"/>
          <p:cNvSpPr/>
          <p:nvPr/>
        </p:nvSpPr>
        <p:spPr>
          <a:xfrm>
            <a:off x="6956280" y="3692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5"/>
          <p:cNvSpPr/>
          <p:nvPr/>
        </p:nvSpPr>
        <p:spPr>
          <a:xfrm>
            <a:off x="707544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36"/>
          <p:cNvSpPr/>
          <p:nvPr/>
        </p:nvSpPr>
        <p:spPr>
          <a:xfrm>
            <a:off x="7236000" y="36860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37"/>
          <p:cNvSpPr/>
          <p:nvPr/>
        </p:nvSpPr>
        <p:spPr>
          <a:xfrm>
            <a:off x="7369200" y="36813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8"/>
          <p:cNvSpPr/>
          <p:nvPr/>
        </p:nvSpPr>
        <p:spPr>
          <a:xfrm>
            <a:off x="7494480" y="36831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9"/>
          <p:cNvSpPr/>
          <p:nvPr/>
        </p:nvSpPr>
        <p:spPr>
          <a:xfrm>
            <a:off x="7615080" y="368460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40"/>
          <p:cNvSpPr/>
          <p:nvPr/>
        </p:nvSpPr>
        <p:spPr>
          <a:xfrm>
            <a:off x="7765920" y="36892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1"/>
          <p:cNvSpPr/>
          <p:nvPr/>
        </p:nvSpPr>
        <p:spPr>
          <a:xfrm>
            <a:off x="7893000" y="369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2"/>
          <p:cNvSpPr/>
          <p:nvPr/>
        </p:nvSpPr>
        <p:spPr>
          <a:xfrm>
            <a:off x="8028000" y="36892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43"/>
          <p:cNvSpPr/>
          <p:nvPr/>
        </p:nvSpPr>
        <p:spPr>
          <a:xfrm>
            <a:off x="814716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4"/>
          <p:cNvSpPr/>
          <p:nvPr/>
        </p:nvSpPr>
        <p:spPr>
          <a:xfrm>
            <a:off x="8286840" y="369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5"/>
          <p:cNvSpPr/>
          <p:nvPr/>
        </p:nvSpPr>
        <p:spPr>
          <a:xfrm>
            <a:off x="841068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47"/>
          <p:cNvSpPr/>
          <p:nvPr/>
        </p:nvSpPr>
        <p:spPr>
          <a:xfrm>
            <a:off x="4427640" y="364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48"/>
          <p:cNvSpPr/>
          <p:nvPr/>
        </p:nvSpPr>
        <p:spPr>
          <a:xfrm>
            <a:off x="4500720" y="400536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" descr="C:\Users\Administrator\AppData\Roaming\Tencent\Users\58445695\QQ\WinTemp\RichOle\J1VBFOKA@D3$1]SA{[7`7IQ.jpg"/>
          <p:cNvPicPr/>
          <p:nvPr/>
        </p:nvPicPr>
        <p:blipFill>
          <a:blip r:embed="rId3"/>
          <a:stretch/>
        </p:blipFill>
        <p:spPr>
          <a:xfrm>
            <a:off x="4140360" y="1557360"/>
            <a:ext cx="1361880" cy="1343160"/>
          </a:xfrm>
          <a:prstGeom prst="rect">
            <a:avLst/>
          </a:prstGeom>
          <a:ln w="0">
            <a:noFill/>
          </a:ln>
        </p:spPr>
      </p:pic>
      <p:sp>
        <p:nvSpPr>
          <p:cNvPr id="576" name="TextBox 84"/>
          <p:cNvSpPr/>
          <p:nvPr/>
        </p:nvSpPr>
        <p:spPr>
          <a:xfrm>
            <a:off x="4427640" y="5300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完成后将试题册背面向上放回桌子左上角，不得提前翻阅</a:t>
            </a: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图片 26" descr="试题册背面_201312_培训_人名.jpg"/>
          <p:cNvPicPr/>
          <p:nvPr/>
        </p:nvPicPr>
        <p:blipFill>
          <a:blip r:embed="rId4"/>
          <a:stretch/>
        </p:blipFill>
        <p:spPr>
          <a:xfrm>
            <a:off x="179280" y="1700280"/>
            <a:ext cx="3838680" cy="4465440"/>
          </a:xfrm>
          <a:prstGeom prst="rect">
            <a:avLst/>
          </a:prstGeom>
          <a:ln w="0">
            <a:noFill/>
          </a:ln>
        </p:spPr>
      </p:pic>
      <p:sp>
        <p:nvSpPr>
          <p:cNvPr id="578" name="线形标注 2 14"/>
          <p:cNvSpPr/>
          <p:nvPr/>
        </p:nvSpPr>
        <p:spPr>
          <a:xfrm>
            <a:off x="2843280" y="4797360"/>
            <a:ext cx="1009440" cy="86364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-20486"/>
              <a:gd name="adj6" fmla="val 288273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7"/>
          <p:cNvSpPr/>
          <p:nvPr/>
        </p:nvSpPr>
        <p:spPr>
          <a:xfrm>
            <a:off x="66168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68"/>
          <p:cNvSpPr/>
          <p:nvPr/>
        </p:nvSpPr>
        <p:spPr>
          <a:xfrm>
            <a:off x="6751800" y="400536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69"/>
          <p:cNvSpPr/>
          <p:nvPr/>
        </p:nvSpPr>
        <p:spPr>
          <a:xfrm>
            <a:off x="6886440" y="39099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70"/>
          <p:cNvSpPr/>
          <p:nvPr/>
        </p:nvSpPr>
        <p:spPr>
          <a:xfrm>
            <a:off x="70200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71"/>
          <p:cNvSpPr/>
          <p:nvPr/>
        </p:nvSpPr>
        <p:spPr>
          <a:xfrm>
            <a:off x="716112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72"/>
          <p:cNvSpPr/>
          <p:nvPr/>
        </p:nvSpPr>
        <p:spPr>
          <a:xfrm>
            <a:off x="7288200" y="3908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73"/>
          <p:cNvSpPr/>
          <p:nvPr/>
        </p:nvSpPr>
        <p:spPr>
          <a:xfrm>
            <a:off x="741348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74"/>
          <p:cNvSpPr/>
          <p:nvPr/>
        </p:nvSpPr>
        <p:spPr>
          <a:xfrm>
            <a:off x="7550280" y="42210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75"/>
          <p:cNvSpPr/>
          <p:nvPr/>
        </p:nvSpPr>
        <p:spPr>
          <a:xfrm>
            <a:off x="7672320" y="4121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76"/>
          <p:cNvSpPr/>
          <p:nvPr/>
        </p:nvSpPr>
        <p:spPr>
          <a:xfrm>
            <a:off x="7807320" y="4121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77"/>
          <p:cNvSpPr/>
          <p:nvPr/>
        </p:nvSpPr>
        <p:spPr>
          <a:xfrm>
            <a:off x="7951680" y="3905280"/>
            <a:ext cx="1098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78"/>
          <p:cNvSpPr/>
          <p:nvPr/>
        </p:nvSpPr>
        <p:spPr>
          <a:xfrm>
            <a:off x="80802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79"/>
          <p:cNvSpPr/>
          <p:nvPr/>
        </p:nvSpPr>
        <p:spPr>
          <a:xfrm>
            <a:off x="8211960" y="38988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80"/>
          <p:cNvSpPr/>
          <p:nvPr/>
        </p:nvSpPr>
        <p:spPr>
          <a:xfrm>
            <a:off x="8344080" y="38988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81"/>
          <p:cNvSpPr/>
          <p:nvPr/>
        </p:nvSpPr>
        <p:spPr>
          <a:xfrm>
            <a:off x="84708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EDE619-AFEF-4AD7-941B-9F3E4222FAE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时间安排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考试时间</a:t>
            </a:r>
            <a:r>
              <a:rPr b="1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四级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号上午，六级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号下午，三级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6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号上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监考班车时间</a:t>
            </a:r>
            <a:r>
              <a:rPr b="0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小和山校区周六、周日上午按学校正常班车，周六中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3:0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学院路发车，走古荡线，下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7:5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走古荡线和文一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安吉校区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周六上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6:4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小和山线西和食堂西门、留和路北口；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 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6:3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文一线：翠苑、物美、高教新村等；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古荡线：学院路东门、香樟、府苑等；返回：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2:4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从安吉校区返回；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8:2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从安吉返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c16c0f"/>
                </a:solidFill>
                <a:latin typeface="黑体"/>
                <a:ea typeface="黑体"/>
              </a:rPr>
              <a:t>领卷点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（根据考场位置到相应的领卷点领取试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c16c0f"/>
                </a:solidFill>
                <a:latin typeface="Arial"/>
              </a:rPr>
              <a:t>小和山校区：</a:t>
            </a:r>
            <a:r>
              <a:rPr b="0" lang="en-US" sz="2300" spc="-1" strike="noStrike">
                <a:solidFill>
                  <a:srgbClr val="c16c0f"/>
                </a:solidFill>
                <a:latin typeface="Arial"/>
              </a:rPr>
              <a:t>A2-240</a:t>
            </a:r>
            <a:r>
              <a:rPr b="1" lang="zh-CN" sz="2300" spc="-1" strike="noStrike">
                <a:solidFill>
                  <a:srgbClr val="c16c0f"/>
                </a:solidFill>
                <a:latin typeface="Arial"/>
              </a:rPr>
              <a:t>（主考办公室）、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c16c0f"/>
                </a:solidFill>
                <a:latin typeface="Arial"/>
              </a:rPr>
              <a:t>安吉校区领卷点：</a:t>
            </a:r>
            <a:r>
              <a:rPr b="1" lang="en-US" sz="2300" spc="-1" strike="noStrike">
                <a:solidFill>
                  <a:srgbClr val="c16c0f"/>
                </a:solidFill>
                <a:latin typeface="Arial"/>
              </a:rPr>
              <a:t>20#-101</a:t>
            </a:r>
            <a:r>
              <a:rPr b="1" lang="zh-CN" sz="2300" spc="-1" strike="noStrike">
                <a:solidFill>
                  <a:srgbClr val="c16c0f"/>
                </a:solidFill>
                <a:latin typeface="Arial"/>
              </a:rPr>
              <a:t>（阶梯教室）（主考办公室）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黑体"/>
                <a:ea typeface="黑体"/>
              </a:rPr>
              <a:t>领卷时间</a:t>
            </a:r>
            <a:r>
              <a:rPr b="1" lang="en-US" sz="20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c16c0f"/>
                </a:solidFill>
                <a:latin typeface="Arial"/>
              </a:rPr>
              <a:t>上午：</a:t>
            </a:r>
            <a:r>
              <a:rPr b="0" lang="en-US" sz="2300" spc="-1" strike="noStrike">
                <a:solidFill>
                  <a:srgbClr val="c16c0f"/>
                </a:solidFill>
                <a:latin typeface="Arial"/>
              </a:rPr>
              <a:t>8</a:t>
            </a:r>
            <a:r>
              <a:rPr b="0" lang="zh-CN" sz="23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300" spc="-1" strike="noStrike">
                <a:solidFill>
                  <a:srgbClr val="c16c0f"/>
                </a:solidFill>
                <a:latin typeface="Arial"/>
              </a:rPr>
              <a:t>10(</a:t>
            </a:r>
            <a:r>
              <a:rPr b="0" lang="zh-CN" sz="2300" spc="-1" strike="noStrike">
                <a:solidFill>
                  <a:srgbClr val="c16c0f"/>
                </a:solidFill>
                <a:latin typeface="Arial"/>
              </a:rPr>
              <a:t>安吉</a:t>
            </a:r>
            <a:r>
              <a:rPr b="0" lang="en-US" sz="2300" spc="-1" strike="noStrike">
                <a:solidFill>
                  <a:srgbClr val="c16c0f"/>
                </a:solidFill>
                <a:latin typeface="Arial"/>
              </a:rPr>
              <a:t>8:20</a:t>
            </a:r>
            <a:r>
              <a:rPr b="0" lang="zh-CN" sz="2300" spc="-1" strike="noStrike">
                <a:solidFill>
                  <a:srgbClr val="c16c0f"/>
                </a:solidFill>
                <a:latin typeface="Arial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c16c0f"/>
                </a:solidFill>
                <a:latin typeface="Arial"/>
              </a:rPr>
              <a:t>下午：</a:t>
            </a:r>
            <a:r>
              <a:rPr b="0" lang="en-US" sz="2300" spc="-1" strike="noStrike">
                <a:solidFill>
                  <a:srgbClr val="c16c0f"/>
                </a:solidFill>
                <a:latin typeface="Arial"/>
              </a:rPr>
              <a:t>14</a:t>
            </a:r>
            <a:r>
              <a:rPr b="0" lang="zh-CN" sz="23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300" spc="-1" strike="noStrike">
                <a:solidFill>
                  <a:srgbClr val="c16c0f"/>
                </a:solidFill>
                <a:latin typeface="Arial"/>
              </a:rPr>
              <a:t>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黑体"/>
                <a:ea typeface="黑体"/>
              </a:rPr>
              <a:t>布置考场</a:t>
            </a:r>
            <a:r>
              <a:rPr b="1" lang="en-US" sz="20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r>
              <a:rPr b="0" lang="en-US" sz="2000" spc="-1" strike="noStrike">
                <a:solidFill>
                  <a:srgbClr val="c16c0f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c16c0f"/>
                </a:solidFill>
                <a:latin typeface="Arial"/>
              </a:rPr>
              <a:t>45(14</a:t>
            </a:r>
            <a:r>
              <a:rPr b="0" lang="zh-CN" sz="20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c16c0f"/>
                </a:solidFill>
                <a:latin typeface="Arial"/>
              </a:rPr>
              <a:t>45)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前完成考场布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D4648-E9B5-49CC-A86B-72E1BA88F4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矩形 3"/>
          <p:cNvSpPr/>
          <p:nvPr/>
        </p:nvSpPr>
        <p:spPr>
          <a:xfrm>
            <a:off x="395280" y="1125360"/>
            <a:ext cx="831528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10/15:1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正式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核对考生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考生粘贴条形码及填写个人信息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开始作答作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作文题目在试题册背面，使用黑色签字笔在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作答，期间不得打开试题册。作文题考试时间为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钟，之后将立即进行听力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华文中宋"/>
                <a:ea typeface="华文中宋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肘形连接符 5"/>
          <p:cNvCxnSpPr/>
          <p:nvPr/>
        </p:nvCxnSpPr>
        <p:spPr>
          <a:xfrm flipV="1" rot="16200000">
            <a:off x="6876000" y="1484280"/>
            <a:ext cx="1008720" cy="721440"/>
          </a:xfrm>
          <a:prstGeom prst="bentConnector3">
            <a:avLst>
              <a:gd name="adj1" fmla="val 49982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596" name="TextBox 7"/>
          <p:cNvSpPr/>
          <p:nvPr/>
        </p:nvSpPr>
        <p:spPr>
          <a:xfrm>
            <a:off x="5580000" y="83664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一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4"/>
          <p:cNvSpPr/>
          <p:nvPr/>
        </p:nvSpPr>
        <p:spPr>
          <a:xfrm>
            <a:off x="395280" y="4869000"/>
            <a:ext cx="831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35/15:3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示考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钟后结束写作考试，并开始进行听力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96387-7E70-4EDE-B80F-7A9CEEC8C7B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indefinite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2"/>
          <p:cNvSpPr/>
          <p:nvPr/>
        </p:nvSpPr>
        <p:spPr>
          <a:xfrm>
            <a:off x="539640" y="1484280"/>
            <a:ext cx="8136000" cy="24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40/15:4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听力考试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进行听力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命令考生打开试题册，带上耳机，播放听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听力考试正式开始，请考生打开试题册并带上耳机，听力录音播放完毕后，将立即回收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37BB93-9A2C-45E7-9560-6E584FA8EA6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3"/>
          <p:cNvSpPr/>
          <p:nvPr/>
        </p:nvSpPr>
        <p:spPr>
          <a:xfrm>
            <a:off x="395280" y="1052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7c80"/>
                </a:solidFill>
                <a:latin typeface="华文中宋"/>
                <a:ea typeface="华文中宋"/>
              </a:rPr>
              <a:t>听力考试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七角星 4"/>
          <p:cNvSpPr/>
          <p:nvPr/>
        </p:nvSpPr>
        <p:spPr>
          <a:xfrm>
            <a:off x="468360" y="1052640"/>
            <a:ext cx="431640" cy="431640"/>
          </a:xfrm>
          <a:custGeom>
            <a:avLst/>
            <a:gdLst>
              <a:gd name="textAreaLeft" fmla="*/ 96120 w 431640"/>
              <a:gd name="textAreaRight" fmla="*/ 335520 w 431640"/>
              <a:gd name="textAreaTop" fmla="*/ 85320 h 431640"/>
              <a:gd name="textAreaBottom" fmla="*/ 325080 h 431640"/>
            </a:gdLst>
            <a:ahLst/>
            <a:rect l="textAreaLeft" t="textAreaTop" r="textAreaRight" b="textAreaBottom"/>
            <a:pathLst>
              <a:path w="431800" h="431800">
                <a:moveTo>
                  <a:pt x="-1" y="277693"/>
                </a:moveTo>
                <a:lnTo>
                  <a:pt x="66492" y="192170"/>
                </a:lnTo>
                <a:lnTo>
                  <a:pt x="42761" y="85524"/>
                </a:lnTo>
                <a:lnTo>
                  <a:pt x="149408" y="85524"/>
                </a:lnTo>
                <a:lnTo>
                  <a:pt x="215900" y="0"/>
                </a:lnTo>
                <a:lnTo>
                  <a:pt x="282392" y="85524"/>
                </a:lnTo>
                <a:lnTo>
                  <a:pt x="389039" y="85524"/>
                </a:lnTo>
                <a:lnTo>
                  <a:pt x="365308" y="192170"/>
                </a:lnTo>
                <a:lnTo>
                  <a:pt x="431801" y="277693"/>
                </a:lnTo>
                <a:lnTo>
                  <a:pt x="335715" y="325156"/>
                </a:lnTo>
                <a:lnTo>
                  <a:pt x="311984" y="431802"/>
                </a:lnTo>
                <a:lnTo>
                  <a:pt x="215900" y="384340"/>
                </a:lnTo>
                <a:lnTo>
                  <a:pt x="119816" y="431802"/>
                </a:lnTo>
                <a:lnTo>
                  <a:pt x="96085" y="325156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5"/>
          <p:cNvSpPr/>
          <p:nvPr/>
        </p:nvSpPr>
        <p:spPr>
          <a:xfrm>
            <a:off x="755640" y="1700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考试时间四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，六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，听力磁带为单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录音播放时间中已包含考生作答时间，听力播放完毕后，监考教师回收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考生须暂停作答，等待指令后方可作答下一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录音中，正式内容开始前提示语为“听力考试现在开始”，正式内容结束的提示语为“力考试结束，现在由监考员收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请考生等待开始作答下一部分试题的指令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6"/>
          <p:cNvSpPr/>
          <p:nvPr/>
        </p:nvSpPr>
        <p:spPr>
          <a:xfrm>
            <a:off x="905040" y="5013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采用无线广播方式的考点须采取相关措施提示监考教师录音结束</a:t>
            </a:r>
            <a:r>
              <a:rPr b="1" lang="en-US" sz="24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等腰三角形 18"/>
          <p:cNvSpPr/>
          <p:nvPr/>
        </p:nvSpPr>
        <p:spPr>
          <a:xfrm>
            <a:off x="468360" y="4941720"/>
            <a:ext cx="422280" cy="574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311D5-18FE-4FA8-ADD2-F8C2216F830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矩形 2"/>
          <p:cNvSpPr/>
          <p:nvPr/>
        </p:nvSpPr>
        <p:spPr>
          <a:xfrm>
            <a:off x="539640" y="1052640"/>
            <a:ext cx="831708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0:10/16:1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：   听力考试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：   要求考生停止作答，收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：   停止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4"/>
          <p:cNvSpPr/>
          <p:nvPr/>
        </p:nvSpPr>
        <p:spPr>
          <a:xfrm>
            <a:off x="539640" y="3213000"/>
            <a:ext cx="83170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0:15/16:1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：   命令考生继续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：   考生继续作答阅读理解和翻译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：   检查考生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人信息填写和条形码粘贴情况，记录缺考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肘形连接符 5"/>
          <p:cNvCxnSpPr/>
          <p:nvPr/>
        </p:nvCxnSpPr>
        <p:spPr>
          <a:xfrm flipH="1" rot="16200000">
            <a:off x="3035880" y="5251320"/>
            <a:ext cx="694440" cy="649800"/>
          </a:xfrm>
          <a:prstGeom prst="bentConnector3">
            <a:avLst>
              <a:gd name="adj1" fmla="val 50000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607" name="TextBox 12"/>
          <p:cNvSpPr/>
          <p:nvPr/>
        </p:nvSpPr>
        <p:spPr>
          <a:xfrm>
            <a:off x="3203640" y="5877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二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3306A-3346-407A-8E79-FCA66251C9C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indefinite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6"/>
          <p:cNvSpPr/>
          <p:nvPr/>
        </p:nvSpPr>
        <p:spPr>
          <a:xfrm>
            <a:off x="684360" y="836640"/>
            <a:ext cx="34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缺考考生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324000" y="1628640"/>
            <a:ext cx="1022040" cy="936720"/>
          </a:xfrm>
          <a:prstGeom prst="rect">
            <a:avLst/>
          </a:prstGeom>
          <a:ln w="0">
            <a:noFill/>
          </a:ln>
        </p:spPr>
      </p:pic>
      <p:sp>
        <p:nvSpPr>
          <p:cNvPr id="610" name="TextBox 5"/>
          <p:cNvSpPr/>
          <p:nvPr/>
        </p:nvSpPr>
        <p:spPr>
          <a:xfrm>
            <a:off x="3203640" y="907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填写（涂）卡</a:t>
            </a:r>
            <a:r>
              <a:rPr b="1" lang="en-US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1</a:t>
            </a: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、卡</a:t>
            </a:r>
            <a:r>
              <a:rPr b="1" lang="en-US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2</a:t>
            </a: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以及试题册背面姓名和准考证号后两位，条形码无需揭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7"/>
          <p:cNvSpPr/>
          <p:nvPr/>
        </p:nvSpPr>
        <p:spPr>
          <a:xfrm>
            <a:off x="25092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1692360" y="1844640"/>
            <a:ext cx="3960720" cy="17161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4" descr="C:\Users\Administrator\AppData\Roaming\Tencent\Users\58445695\QQ\WinTemp\RichOle\DFVUN(`$@5_AA{(6@~EK}(3.jpg"/>
          <p:cNvPicPr/>
          <p:nvPr/>
        </p:nvPicPr>
        <p:blipFill>
          <a:blip r:embed="rId3"/>
          <a:stretch/>
        </p:blipFill>
        <p:spPr>
          <a:xfrm>
            <a:off x="1692360" y="3933720"/>
            <a:ext cx="3960720" cy="1798920"/>
          </a:xfrm>
          <a:prstGeom prst="rect">
            <a:avLst/>
          </a:prstGeom>
          <a:ln w="0">
            <a:noFill/>
          </a:ln>
        </p:spPr>
      </p:pic>
      <p:sp>
        <p:nvSpPr>
          <p:cNvPr id="614" name="TextBox 36"/>
          <p:cNvSpPr/>
          <p:nvPr/>
        </p:nvSpPr>
        <p:spPr>
          <a:xfrm>
            <a:off x="5146560" y="242100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37"/>
          <p:cNvSpPr/>
          <p:nvPr/>
        </p:nvSpPr>
        <p:spPr>
          <a:xfrm>
            <a:off x="5238720" y="24210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38"/>
          <p:cNvSpPr/>
          <p:nvPr/>
        </p:nvSpPr>
        <p:spPr>
          <a:xfrm>
            <a:off x="5210280" y="270828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39"/>
          <p:cNvSpPr/>
          <p:nvPr/>
        </p:nvSpPr>
        <p:spPr>
          <a:xfrm>
            <a:off x="5313240" y="2708280"/>
            <a:ext cx="7956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40"/>
          <p:cNvSpPr/>
          <p:nvPr/>
        </p:nvSpPr>
        <p:spPr>
          <a:xfrm>
            <a:off x="1945800" y="2363760"/>
            <a:ext cx="6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41"/>
          <p:cNvSpPr/>
          <p:nvPr/>
        </p:nvSpPr>
        <p:spPr>
          <a:xfrm>
            <a:off x="2050920" y="270828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张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42"/>
          <p:cNvSpPr/>
          <p:nvPr/>
        </p:nvSpPr>
        <p:spPr>
          <a:xfrm>
            <a:off x="5222880" y="479736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43"/>
          <p:cNvSpPr/>
          <p:nvPr/>
        </p:nvSpPr>
        <p:spPr>
          <a:xfrm>
            <a:off x="5326200" y="479736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44"/>
          <p:cNvSpPr/>
          <p:nvPr/>
        </p:nvSpPr>
        <p:spPr>
          <a:xfrm>
            <a:off x="5165640" y="450864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45"/>
          <p:cNvSpPr/>
          <p:nvPr/>
        </p:nvSpPr>
        <p:spPr>
          <a:xfrm>
            <a:off x="5268960" y="45086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6"/>
          <p:cNvSpPr/>
          <p:nvPr/>
        </p:nvSpPr>
        <p:spPr>
          <a:xfrm>
            <a:off x="2120400" y="4726080"/>
            <a:ext cx="6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47"/>
          <p:cNvSpPr/>
          <p:nvPr/>
        </p:nvSpPr>
        <p:spPr>
          <a:xfrm>
            <a:off x="2154240" y="521496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张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" descr="C:\Users\Administrator\AppData\Roaming\Tencent\Users\58445695\QQ\WinTemp\RichOle\Z8_[4V}%OQ%R7YA[]H5A$)R.jpg"/>
          <p:cNvPicPr/>
          <p:nvPr/>
        </p:nvPicPr>
        <p:blipFill>
          <a:blip r:embed="rId4"/>
          <a:stretch/>
        </p:blipFill>
        <p:spPr>
          <a:xfrm>
            <a:off x="5724360" y="2060640"/>
            <a:ext cx="3032280" cy="3502080"/>
          </a:xfrm>
          <a:prstGeom prst="rect">
            <a:avLst/>
          </a:prstGeom>
          <a:ln w="0">
            <a:noFill/>
          </a:ln>
        </p:spPr>
      </p:pic>
      <p:sp>
        <p:nvSpPr>
          <p:cNvPr id="627" name="矩形 48"/>
          <p:cNvSpPr/>
          <p:nvPr/>
        </p:nvSpPr>
        <p:spPr>
          <a:xfrm>
            <a:off x="6393600" y="314172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！！条形码无需揭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E4090-4A2E-42BF-BAB7-E60665A7918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矩形 2"/>
          <p:cNvSpPr/>
          <p:nvPr/>
        </p:nvSpPr>
        <p:spPr>
          <a:xfrm>
            <a:off x="324000" y="1268280"/>
            <a:ext cx="8315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1:10/17:1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工作概述：   离考试结束还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监考教师：   提示考生离考试结束还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3"/>
          <p:cNvSpPr/>
          <p:nvPr/>
        </p:nvSpPr>
        <p:spPr>
          <a:xfrm>
            <a:off x="324000" y="2708280"/>
            <a:ext cx="83152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1:20/17:2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工作概述：   考试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        生：   考生停止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监考教师 ：   回收试题册、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清点答题卡及试题册数量以及个人信息填写，条形码粘贴无误，方可让考生离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0" name="肘形连接符 5"/>
          <p:cNvCxnSpPr/>
          <p:nvPr/>
        </p:nvCxnSpPr>
        <p:spPr>
          <a:xfrm flipH="1" rot="16200000">
            <a:off x="5772600" y="4746240"/>
            <a:ext cx="694440" cy="649800"/>
          </a:xfrm>
          <a:prstGeom prst="bentConnector3">
            <a:avLst>
              <a:gd name="adj1" fmla="val 50000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631" name="TextBox 12"/>
          <p:cNvSpPr/>
          <p:nvPr/>
        </p:nvSpPr>
        <p:spPr>
          <a:xfrm>
            <a:off x="4211640" y="5445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三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A57E74-58E2-45B0-ACC6-104CBBAB2A5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indefinite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矩形 9"/>
          <p:cNvSpPr/>
          <p:nvPr/>
        </p:nvSpPr>
        <p:spPr>
          <a:xfrm>
            <a:off x="736560" y="76500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4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异常情况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1"/>
          <p:cNvSpPr/>
          <p:nvPr/>
        </p:nvSpPr>
        <p:spPr>
          <a:xfrm>
            <a:off x="971640" y="162864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易发生异常情况时间</a:t>
            </a:r>
            <a:r>
              <a:rPr b="1" lang="en-US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A</a:t>
            </a: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：</a:t>
            </a:r>
            <a:r>
              <a:rPr b="1" lang="zh-CN" sz="20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答题卡、试题册下发，可以作答前，考生填写（涂）个人信息，粘贴条形码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图片 5" descr="C:\Users\Administrator\AppData\Roaming\Tencent\Users\2411221069\QQ\WinTemp\RichOle\V@VCX{$B@WME6%~MCE8G_FX.jpg"/>
          <p:cNvPicPr/>
          <p:nvPr/>
        </p:nvPicPr>
        <p:blipFill>
          <a:blip r:embed="rId1"/>
          <a:stretch/>
        </p:blipFill>
        <p:spPr>
          <a:xfrm>
            <a:off x="468360" y="1484280"/>
            <a:ext cx="59688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8D28E-3EAA-46DC-9ECC-340C36FB61A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1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没有条形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或条形码损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圆角矩形 5"/>
          <p:cNvGrpSpPr/>
          <p:nvPr/>
        </p:nvGrpSpPr>
        <p:grpSpPr>
          <a:xfrm>
            <a:off x="549360" y="4095720"/>
            <a:ext cx="1700280" cy="1622520"/>
            <a:chOff x="549360" y="4095720"/>
            <a:chExt cx="1700280" cy="1622520"/>
          </a:xfrm>
        </p:grpSpPr>
        <p:pic>
          <p:nvPicPr>
            <p:cNvPr id="63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54936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68580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圆角矩形 6"/>
          <p:cNvGrpSpPr/>
          <p:nvPr/>
        </p:nvGrpSpPr>
        <p:grpSpPr>
          <a:xfrm>
            <a:off x="2736720" y="4095720"/>
            <a:ext cx="1702080" cy="1622520"/>
            <a:chOff x="2736720" y="4095720"/>
            <a:chExt cx="1702080" cy="1622520"/>
          </a:xfrm>
        </p:grpSpPr>
        <p:pic>
          <p:nvPicPr>
            <p:cNvPr id="640" name="圆角矩形 6" descr=""/>
            <p:cNvPicPr/>
            <p:nvPr/>
          </p:nvPicPr>
          <p:blipFill>
            <a:blip r:embed="rId2"/>
            <a:stretch/>
          </p:blipFill>
          <p:spPr>
            <a:xfrm>
              <a:off x="2736720" y="4095720"/>
              <a:ext cx="1702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287028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启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圆角矩形 7"/>
          <p:cNvGrpSpPr/>
          <p:nvPr/>
        </p:nvGrpSpPr>
        <p:grpSpPr>
          <a:xfrm>
            <a:off x="4919760" y="4095720"/>
            <a:ext cx="1700280" cy="1622520"/>
            <a:chOff x="4919760" y="4095720"/>
            <a:chExt cx="1700280" cy="1622520"/>
          </a:xfrm>
        </p:grpSpPr>
        <p:pic>
          <p:nvPicPr>
            <p:cNvPr id="643" name="圆角矩形 7" descr=""/>
            <p:cNvPicPr/>
            <p:nvPr/>
          </p:nvPicPr>
          <p:blipFill>
            <a:blip r:embed="rId3"/>
            <a:stretch/>
          </p:blipFill>
          <p:spPr>
            <a:xfrm>
              <a:off x="491976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5054760" y="4208400"/>
              <a:ext cx="14349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圆角矩形 8"/>
          <p:cNvGrpSpPr/>
          <p:nvPr/>
        </p:nvGrpSpPr>
        <p:grpSpPr>
          <a:xfrm>
            <a:off x="7102440" y="4095720"/>
            <a:ext cx="1700280" cy="1622520"/>
            <a:chOff x="7102440" y="4095720"/>
            <a:chExt cx="1700280" cy="1622520"/>
          </a:xfrm>
        </p:grpSpPr>
        <p:pic>
          <p:nvPicPr>
            <p:cNvPr id="646" name="圆角矩形 8" descr=""/>
            <p:cNvPicPr/>
            <p:nvPr/>
          </p:nvPicPr>
          <p:blipFill>
            <a:blip r:embed="rId4"/>
            <a:stretch/>
          </p:blipFill>
          <p:spPr>
            <a:xfrm>
              <a:off x="710244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723744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Box 9"/>
          <p:cNvSpPr/>
          <p:nvPr/>
        </p:nvSpPr>
        <p:spPr>
          <a:xfrm>
            <a:off x="1028520" y="3557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3015360" y="3557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1"/>
          <p:cNvSpPr/>
          <p:nvPr/>
        </p:nvSpPr>
        <p:spPr>
          <a:xfrm>
            <a:off x="5255640" y="355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12"/>
          <p:cNvSpPr/>
          <p:nvPr/>
        </p:nvSpPr>
        <p:spPr>
          <a:xfrm>
            <a:off x="7419240" y="355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椭圆形标注 13"/>
          <p:cNvSpPr/>
          <p:nvPr/>
        </p:nvSpPr>
        <p:spPr>
          <a:xfrm rot="574800">
            <a:off x="3588840" y="1379520"/>
            <a:ext cx="5457960" cy="1625760"/>
          </a:xfrm>
          <a:prstGeom prst="wedgeEllipseCallout">
            <a:avLst>
              <a:gd name="adj1" fmla="val -18212"/>
              <a:gd name="adj2" fmla="val 4501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省级承办机构汇总各考点该种情况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填写条形码异常情况汇总表，并提交给扫描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右箭头 14"/>
          <p:cNvGrpSpPr/>
          <p:nvPr/>
        </p:nvGrpSpPr>
        <p:grpSpPr>
          <a:xfrm>
            <a:off x="2152800" y="4595760"/>
            <a:ext cx="723600" cy="757440"/>
            <a:chOff x="2152800" y="4595760"/>
            <a:chExt cx="723600" cy="757440"/>
          </a:xfrm>
        </p:grpSpPr>
        <p:pic>
          <p:nvPicPr>
            <p:cNvPr id="654" name="右箭头 14" descr=""/>
            <p:cNvPicPr/>
            <p:nvPr/>
          </p:nvPicPr>
          <p:blipFill>
            <a:blip r:embed="rId5"/>
            <a:stretch/>
          </p:blipFill>
          <p:spPr>
            <a:xfrm>
              <a:off x="2152800" y="4595760"/>
              <a:ext cx="7236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2211480" y="47941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右箭头 15"/>
          <p:cNvGrpSpPr/>
          <p:nvPr/>
        </p:nvGrpSpPr>
        <p:grpSpPr>
          <a:xfrm>
            <a:off x="4322880" y="4595760"/>
            <a:ext cx="725400" cy="757440"/>
            <a:chOff x="4322880" y="4595760"/>
            <a:chExt cx="725400" cy="757440"/>
          </a:xfrm>
        </p:grpSpPr>
        <p:pic>
          <p:nvPicPr>
            <p:cNvPr id="657" name="右箭头 15" descr=""/>
            <p:cNvPicPr/>
            <p:nvPr/>
          </p:nvPicPr>
          <p:blipFill>
            <a:blip r:embed="rId6"/>
            <a:stretch/>
          </p:blipFill>
          <p:spPr>
            <a:xfrm>
              <a:off x="4322880" y="4595760"/>
              <a:ext cx="725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4383000" y="47941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右箭头 16"/>
          <p:cNvGrpSpPr/>
          <p:nvPr/>
        </p:nvGrpSpPr>
        <p:grpSpPr>
          <a:xfrm>
            <a:off x="6529320" y="4595760"/>
            <a:ext cx="725400" cy="757440"/>
            <a:chOff x="6529320" y="4595760"/>
            <a:chExt cx="725400" cy="757440"/>
          </a:xfrm>
        </p:grpSpPr>
        <p:pic>
          <p:nvPicPr>
            <p:cNvPr id="660" name="右箭头 16" descr=""/>
            <p:cNvPicPr/>
            <p:nvPr/>
          </p:nvPicPr>
          <p:blipFill>
            <a:blip r:embed="rId7"/>
            <a:stretch/>
          </p:blipFill>
          <p:spPr>
            <a:xfrm>
              <a:off x="6529320" y="4595760"/>
              <a:ext cx="725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6588000" y="47941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Box 17"/>
          <p:cNvSpPr/>
          <p:nvPr/>
        </p:nvSpPr>
        <p:spPr>
          <a:xfrm>
            <a:off x="1908000" y="6021360"/>
            <a:ext cx="41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试题册装入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袋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等腰三角形 18"/>
          <p:cNvSpPr/>
          <p:nvPr/>
        </p:nvSpPr>
        <p:spPr>
          <a:xfrm>
            <a:off x="1116000" y="5805360"/>
            <a:ext cx="719280" cy="792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A8BF67-EDC9-4E26-A5E7-B51CB347A3A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2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考生误贴条码，但不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答题及填写个人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椭圆形标注 5"/>
          <p:cNvSpPr/>
          <p:nvPr/>
        </p:nvSpPr>
        <p:spPr>
          <a:xfrm rot="1390200">
            <a:off x="4322520" y="1266840"/>
            <a:ext cx="4316400" cy="1450800"/>
          </a:xfrm>
          <a:prstGeom prst="wedgeEllipseCallout">
            <a:avLst>
              <a:gd name="adj1" fmla="val -18212"/>
              <a:gd name="adj2" fmla="val 4501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琥珀"/>
                <a:ea typeface="华文琥珀"/>
              </a:rPr>
              <a:t>无须特殊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圆角矩形 6"/>
          <p:cNvGrpSpPr/>
          <p:nvPr/>
        </p:nvGrpSpPr>
        <p:grpSpPr>
          <a:xfrm>
            <a:off x="407880" y="3968640"/>
            <a:ext cx="1702080" cy="1621080"/>
            <a:chOff x="407880" y="3968640"/>
            <a:chExt cx="1702080" cy="1621080"/>
          </a:xfrm>
        </p:grpSpPr>
        <p:pic>
          <p:nvPicPr>
            <p:cNvPr id="667" name="圆角矩形 6" descr=""/>
            <p:cNvPicPr/>
            <p:nvPr/>
          </p:nvPicPr>
          <p:blipFill>
            <a:blip r:embed="rId1"/>
            <a:stretch/>
          </p:blipFill>
          <p:spPr>
            <a:xfrm>
              <a:off x="407880" y="3968640"/>
              <a:ext cx="1702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54144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圆角矩形 7"/>
          <p:cNvGrpSpPr/>
          <p:nvPr/>
        </p:nvGrpSpPr>
        <p:grpSpPr>
          <a:xfrm>
            <a:off x="2590920" y="3968640"/>
            <a:ext cx="1699920" cy="1621080"/>
            <a:chOff x="2590920" y="3968640"/>
            <a:chExt cx="1699920" cy="1621080"/>
          </a:xfrm>
        </p:grpSpPr>
        <p:pic>
          <p:nvPicPr>
            <p:cNvPr id="670" name="圆角矩形 7" descr=""/>
            <p:cNvPicPr/>
            <p:nvPr/>
          </p:nvPicPr>
          <p:blipFill>
            <a:blip r:embed="rId2"/>
            <a:stretch/>
          </p:blipFill>
          <p:spPr>
            <a:xfrm>
              <a:off x="2590920" y="3968640"/>
              <a:ext cx="16999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272556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启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圆角矩形 8"/>
          <p:cNvGrpSpPr/>
          <p:nvPr/>
        </p:nvGrpSpPr>
        <p:grpSpPr>
          <a:xfrm>
            <a:off x="4773600" y="3968640"/>
            <a:ext cx="1700280" cy="1621080"/>
            <a:chOff x="4773600" y="3968640"/>
            <a:chExt cx="1700280" cy="1621080"/>
          </a:xfrm>
        </p:grpSpPr>
        <p:pic>
          <p:nvPicPr>
            <p:cNvPr id="673" name="圆角矩形 8" descr=""/>
            <p:cNvPicPr/>
            <p:nvPr/>
          </p:nvPicPr>
          <p:blipFill>
            <a:blip r:embed="rId3"/>
            <a:stretch/>
          </p:blipFill>
          <p:spPr>
            <a:xfrm>
              <a:off x="4773600" y="3968640"/>
              <a:ext cx="1700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491004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圆角矩形 9"/>
          <p:cNvGrpSpPr/>
          <p:nvPr/>
        </p:nvGrpSpPr>
        <p:grpSpPr>
          <a:xfrm>
            <a:off x="6961320" y="3968640"/>
            <a:ext cx="1695240" cy="1621080"/>
            <a:chOff x="6961320" y="3968640"/>
            <a:chExt cx="1695240" cy="1621080"/>
          </a:xfrm>
        </p:grpSpPr>
        <p:pic>
          <p:nvPicPr>
            <p:cNvPr id="676" name="圆角矩形 9" descr=""/>
            <p:cNvPicPr/>
            <p:nvPr/>
          </p:nvPicPr>
          <p:blipFill>
            <a:blip r:embed="rId4"/>
            <a:stretch/>
          </p:blipFill>
          <p:spPr>
            <a:xfrm>
              <a:off x="6961320" y="3968640"/>
              <a:ext cx="169524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709452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TextBox 10"/>
          <p:cNvSpPr/>
          <p:nvPr/>
        </p:nvSpPr>
        <p:spPr>
          <a:xfrm>
            <a:off x="88380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1"/>
          <p:cNvSpPr/>
          <p:nvPr/>
        </p:nvSpPr>
        <p:spPr>
          <a:xfrm>
            <a:off x="2871000" y="342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"/>
          <p:cNvSpPr/>
          <p:nvPr/>
        </p:nvSpPr>
        <p:spPr>
          <a:xfrm>
            <a:off x="511200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3"/>
          <p:cNvSpPr/>
          <p:nvPr/>
        </p:nvSpPr>
        <p:spPr>
          <a:xfrm>
            <a:off x="727488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右箭头 14"/>
          <p:cNvGrpSpPr/>
          <p:nvPr/>
        </p:nvGrpSpPr>
        <p:grpSpPr>
          <a:xfrm>
            <a:off x="2004840" y="4468680"/>
            <a:ext cx="725760" cy="755640"/>
            <a:chOff x="2004840" y="4468680"/>
            <a:chExt cx="725760" cy="755640"/>
          </a:xfrm>
        </p:grpSpPr>
        <p:pic>
          <p:nvPicPr>
            <p:cNvPr id="683" name="右箭头 14" descr=""/>
            <p:cNvPicPr/>
            <p:nvPr/>
          </p:nvPicPr>
          <p:blipFill>
            <a:blip r:embed="rId5"/>
            <a:stretch/>
          </p:blipFill>
          <p:spPr>
            <a:xfrm>
              <a:off x="2004840" y="4468680"/>
              <a:ext cx="725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2066760" y="466560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右箭头 15"/>
          <p:cNvGrpSpPr/>
          <p:nvPr/>
        </p:nvGrpSpPr>
        <p:grpSpPr>
          <a:xfrm>
            <a:off x="4175280" y="4468680"/>
            <a:ext cx="731520" cy="755640"/>
            <a:chOff x="4175280" y="4468680"/>
            <a:chExt cx="731520" cy="755640"/>
          </a:xfrm>
        </p:grpSpPr>
        <p:pic>
          <p:nvPicPr>
            <p:cNvPr id="686" name="右箭头 15" descr=""/>
            <p:cNvPicPr/>
            <p:nvPr/>
          </p:nvPicPr>
          <p:blipFill>
            <a:blip r:embed="rId6"/>
            <a:stretch/>
          </p:blipFill>
          <p:spPr>
            <a:xfrm>
              <a:off x="4175280" y="4468680"/>
              <a:ext cx="731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4238640" y="466560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右箭头 16"/>
          <p:cNvGrpSpPr/>
          <p:nvPr/>
        </p:nvGrpSpPr>
        <p:grpSpPr>
          <a:xfrm>
            <a:off x="6381720" y="4468680"/>
            <a:ext cx="731880" cy="755640"/>
            <a:chOff x="6381720" y="4468680"/>
            <a:chExt cx="731880" cy="755640"/>
          </a:xfrm>
        </p:grpSpPr>
        <p:pic>
          <p:nvPicPr>
            <p:cNvPr id="689" name="右箭头 16" descr=""/>
            <p:cNvPicPr/>
            <p:nvPr/>
          </p:nvPicPr>
          <p:blipFill>
            <a:blip r:embed="rId7"/>
            <a:stretch/>
          </p:blipFill>
          <p:spPr>
            <a:xfrm>
              <a:off x="6381720" y="4468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6443640" y="466560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7592E2-3A4E-4F76-9027-219E1E3E1B1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云形标注 15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3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考生误贴条码，已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答题及填写个人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图片 5" descr="2013L089-大学英语4级卡1_页面_1.jpg"/>
          <p:cNvPicPr/>
          <p:nvPr/>
        </p:nvPicPr>
        <p:blipFill>
          <a:blip r:embed="rId1"/>
          <a:stretch/>
        </p:blipFill>
        <p:spPr>
          <a:xfrm>
            <a:off x="4067280" y="836640"/>
            <a:ext cx="4333680" cy="5781600"/>
          </a:xfrm>
          <a:prstGeom prst="rect">
            <a:avLst/>
          </a:prstGeom>
          <a:ln w="0">
            <a:noFill/>
          </a:ln>
        </p:spPr>
      </p:pic>
      <p:sp>
        <p:nvSpPr>
          <p:cNvPr id="693" name="椭圆 19"/>
          <p:cNvSpPr/>
          <p:nvPr/>
        </p:nvSpPr>
        <p:spPr>
          <a:xfrm rot="379800">
            <a:off x="6551280" y="1655640"/>
            <a:ext cx="1407960" cy="6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椭圆 21"/>
          <p:cNvSpPr/>
          <p:nvPr/>
        </p:nvSpPr>
        <p:spPr>
          <a:xfrm rot="21052200">
            <a:off x="5332320" y="4198680"/>
            <a:ext cx="1646280" cy="83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8EB4C-96E2-41FA-98FC-CFF25A83513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四六级考试铃声（一共五次铃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生入场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4: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前准备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答题开始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: 1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1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听力开始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3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3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试结束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7:25</a:t>
            </a:r>
            <a:r>
              <a:rPr b="0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考试时间统一以铃声为准，</a:t>
            </a:r>
            <a:r>
              <a:rPr b="0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铃声时对表，按照时间进度安排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时间安排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4CBA9-C643-4500-8971-6ADC3F4716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圆角矩形 3"/>
          <p:cNvGrpSpPr/>
          <p:nvPr/>
        </p:nvGrpSpPr>
        <p:grpSpPr>
          <a:xfrm>
            <a:off x="407880" y="2670120"/>
            <a:ext cx="1702080" cy="1620720"/>
            <a:chOff x="407880" y="2670120"/>
            <a:chExt cx="1702080" cy="1620720"/>
          </a:xfrm>
        </p:grpSpPr>
        <p:pic>
          <p:nvPicPr>
            <p:cNvPr id="696" name="圆角矩形 3" descr=""/>
            <p:cNvPicPr/>
            <p:nvPr/>
          </p:nvPicPr>
          <p:blipFill>
            <a:blip r:embed="rId1"/>
            <a:stretch/>
          </p:blipFill>
          <p:spPr>
            <a:xfrm>
              <a:off x="407880" y="267012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54144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圆角矩形 4"/>
          <p:cNvGrpSpPr/>
          <p:nvPr/>
        </p:nvGrpSpPr>
        <p:grpSpPr>
          <a:xfrm>
            <a:off x="2530440" y="2670120"/>
            <a:ext cx="1859040" cy="1620720"/>
            <a:chOff x="2530440" y="2670120"/>
            <a:chExt cx="1859040" cy="1620720"/>
          </a:xfrm>
        </p:grpSpPr>
        <p:pic>
          <p:nvPicPr>
            <p:cNvPr id="699" name="圆角矩形 4" descr=""/>
            <p:cNvPicPr/>
            <p:nvPr/>
          </p:nvPicPr>
          <p:blipFill>
            <a:blip r:embed="rId2"/>
            <a:stretch/>
          </p:blipFill>
          <p:spPr>
            <a:xfrm>
              <a:off x="2530440" y="267012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272556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圆角矩形 5"/>
          <p:cNvGrpSpPr/>
          <p:nvPr/>
        </p:nvGrpSpPr>
        <p:grpSpPr>
          <a:xfrm>
            <a:off x="4711680" y="2670120"/>
            <a:ext cx="1860480" cy="1620720"/>
            <a:chOff x="4711680" y="2670120"/>
            <a:chExt cx="1860480" cy="1620720"/>
          </a:xfrm>
        </p:grpSpPr>
        <p:pic>
          <p:nvPicPr>
            <p:cNvPr id="702" name="圆角矩形 5" descr=""/>
            <p:cNvPicPr/>
            <p:nvPr/>
          </p:nvPicPr>
          <p:blipFill>
            <a:blip r:embed="rId3"/>
            <a:stretch/>
          </p:blipFill>
          <p:spPr>
            <a:xfrm>
              <a:off x="4711680" y="267012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91004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圆角矩形 6"/>
          <p:cNvGrpSpPr/>
          <p:nvPr/>
        </p:nvGrpSpPr>
        <p:grpSpPr>
          <a:xfrm>
            <a:off x="6961320" y="2670120"/>
            <a:ext cx="1695240" cy="1620720"/>
            <a:chOff x="6961320" y="2670120"/>
            <a:chExt cx="1695240" cy="1620720"/>
          </a:xfrm>
        </p:grpSpPr>
        <p:pic>
          <p:nvPicPr>
            <p:cNvPr id="705" name="圆角矩形 6" descr=""/>
            <p:cNvPicPr/>
            <p:nvPr/>
          </p:nvPicPr>
          <p:blipFill>
            <a:blip r:embed="rId4"/>
            <a:stretch/>
          </p:blipFill>
          <p:spPr>
            <a:xfrm>
              <a:off x="6961320" y="2670120"/>
              <a:ext cx="16952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709452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TextBox 7"/>
          <p:cNvSpPr/>
          <p:nvPr/>
        </p:nvSpPr>
        <p:spPr>
          <a:xfrm>
            <a:off x="88380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8"/>
          <p:cNvSpPr/>
          <p:nvPr/>
        </p:nvSpPr>
        <p:spPr>
          <a:xfrm>
            <a:off x="2871000" y="213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9"/>
          <p:cNvSpPr/>
          <p:nvPr/>
        </p:nvSpPr>
        <p:spPr>
          <a:xfrm>
            <a:off x="511200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0"/>
          <p:cNvSpPr/>
          <p:nvPr/>
        </p:nvSpPr>
        <p:spPr>
          <a:xfrm>
            <a:off x="727488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右箭头 11"/>
          <p:cNvGrpSpPr/>
          <p:nvPr/>
        </p:nvGrpSpPr>
        <p:grpSpPr>
          <a:xfrm>
            <a:off x="2004840" y="3170160"/>
            <a:ext cx="725760" cy="755640"/>
            <a:chOff x="2004840" y="3170160"/>
            <a:chExt cx="725760" cy="755640"/>
          </a:xfrm>
        </p:grpSpPr>
        <p:pic>
          <p:nvPicPr>
            <p:cNvPr id="712" name="右箭头 11" descr=""/>
            <p:cNvPicPr/>
            <p:nvPr/>
          </p:nvPicPr>
          <p:blipFill>
            <a:blip r:embed="rId5"/>
            <a:stretch/>
          </p:blipFill>
          <p:spPr>
            <a:xfrm>
              <a:off x="2004840" y="3170160"/>
              <a:ext cx="725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2066760" y="33685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右箭头 12"/>
          <p:cNvGrpSpPr/>
          <p:nvPr/>
        </p:nvGrpSpPr>
        <p:grpSpPr>
          <a:xfrm>
            <a:off x="4175280" y="3170160"/>
            <a:ext cx="731520" cy="755640"/>
            <a:chOff x="4175280" y="3170160"/>
            <a:chExt cx="731520" cy="755640"/>
          </a:xfrm>
        </p:grpSpPr>
        <p:pic>
          <p:nvPicPr>
            <p:cNvPr id="715" name="右箭头 12" descr=""/>
            <p:cNvPicPr/>
            <p:nvPr/>
          </p:nvPicPr>
          <p:blipFill>
            <a:blip r:embed="rId6"/>
            <a:stretch/>
          </p:blipFill>
          <p:spPr>
            <a:xfrm>
              <a:off x="4175280" y="3170160"/>
              <a:ext cx="731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4238640" y="33685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右箭头 13"/>
          <p:cNvGrpSpPr/>
          <p:nvPr/>
        </p:nvGrpSpPr>
        <p:grpSpPr>
          <a:xfrm>
            <a:off x="6381720" y="3170160"/>
            <a:ext cx="731880" cy="755640"/>
            <a:chOff x="6381720" y="3170160"/>
            <a:chExt cx="731880" cy="755640"/>
          </a:xfrm>
        </p:grpSpPr>
        <p:pic>
          <p:nvPicPr>
            <p:cNvPr id="718" name="右箭头 13" descr=""/>
            <p:cNvPicPr/>
            <p:nvPr/>
          </p:nvPicPr>
          <p:blipFill>
            <a:blip r:embed="rId7"/>
            <a:stretch/>
          </p:blipFill>
          <p:spPr>
            <a:xfrm>
              <a:off x="6381720" y="317016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6443640" y="33685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等腰三角形 27"/>
          <p:cNvSpPr/>
          <p:nvPr/>
        </p:nvSpPr>
        <p:spPr>
          <a:xfrm>
            <a:off x="1116000" y="5157720"/>
            <a:ext cx="719280" cy="792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28"/>
          <p:cNvSpPr/>
          <p:nvPr/>
        </p:nvSpPr>
        <p:spPr>
          <a:xfrm>
            <a:off x="1835280" y="5445000"/>
            <a:ext cx="626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原试题册、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、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2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不送至扫描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CA014C-9664-4F36-8319-FFA982A9E28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4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未贴条码前，发现答题卡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有印刷错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圆角矩形 4"/>
          <p:cNvGrpSpPr/>
          <p:nvPr/>
        </p:nvGrpSpPr>
        <p:grpSpPr>
          <a:xfrm>
            <a:off x="480960" y="3176640"/>
            <a:ext cx="1701720" cy="1620720"/>
            <a:chOff x="480960" y="3176640"/>
            <a:chExt cx="1701720" cy="1620720"/>
          </a:xfrm>
        </p:grpSpPr>
        <p:pic>
          <p:nvPicPr>
            <p:cNvPr id="724" name="圆角矩形 4" descr=""/>
            <p:cNvPicPr/>
            <p:nvPr/>
          </p:nvPicPr>
          <p:blipFill>
            <a:blip r:embed="rId1"/>
            <a:stretch/>
          </p:blipFill>
          <p:spPr>
            <a:xfrm>
              <a:off x="480960" y="3176640"/>
              <a:ext cx="17017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61596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圆角矩形 5"/>
          <p:cNvGrpSpPr/>
          <p:nvPr/>
        </p:nvGrpSpPr>
        <p:grpSpPr>
          <a:xfrm>
            <a:off x="2603520" y="3176640"/>
            <a:ext cx="1859040" cy="1620720"/>
            <a:chOff x="2603520" y="3176640"/>
            <a:chExt cx="1859040" cy="1620720"/>
          </a:xfrm>
        </p:grpSpPr>
        <p:pic>
          <p:nvPicPr>
            <p:cNvPr id="727" name="圆角矩形 5" descr=""/>
            <p:cNvPicPr/>
            <p:nvPr/>
          </p:nvPicPr>
          <p:blipFill>
            <a:blip r:embed="rId2"/>
            <a:stretch/>
          </p:blipFill>
          <p:spPr>
            <a:xfrm>
              <a:off x="2603520" y="317664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28004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圆角矩形 6"/>
          <p:cNvGrpSpPr/>
          <p:nvPr/>
        </p:nvGrpSpPr>
        <p:grpSpPr>
          <a:xfrm>
            <a:off x="4784760" y="3176640"/>
            <a:ext cx="1860480" cy="1620720"/>
            <a:chOff x="4784760" y="3176640"/>
            <a:chExt cx="1860480" cy="1620720"/>
          </a:xfrm>
        </p:grpSpPr>
        <p:pic>
          <p:nvPicPr>
            <p:cNvPr id="730" name="圆角矩形 6" descr=""/>
            <p:cNvPicPr/>
            <p:nvPr/>
          </p:nvPicPr>
          <p:blipFill>
            <a:blip r:embed="rId3"/>
            <a:stretch/>
          </p:blipFill>
          <p:spPr>
            <a:xfrm>
              <a:off x="4784760" y="317664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4984920" y="3286080"/>
              <a:ext cx="14364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圆角矩形 7"/>
          <p:cNvGrpSpPr/>
          <p:nvPr/>
        </p:nvGrpSpPr>
        <p:grpSpPr>
          <a:xfrm>
            <a:off x="7034040" y="3176640"/>
            <a:ext cx="1702080" cy="1620720"/>
            <a:chOff x="7034040" y="3176640"/>
            <a:chExt cx="1702080" cy="1620720"/>
          </a:xfrm>
        </p:grpSpPr>
        <p:pic>
          <p:nvPicPr>
            <p:cNvPr id="733" name="圆角矩形 7" descr=""/>
            <p:cNvPicPr/>
            <p:nvPr/>
          </p:nvPicPr>
          <p:blipFill>
            <a:blip r:embed="rId4"/>
            <a:stretch/>
          </p:blipFill>
          <p:spPr>
            <a:xfrm>
              <a:off x="7034040" y="317664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71690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TextBox 8"/>
          <p:cNvSpPr/>
          <p:nvPr/>
        </p:nvSpPr>
        <p:spPr>
          <a:xfrm>
            <a:off x="9586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9"/>
          <p:cNvSpPr/>
          <p:nvPr/>
        </p:nvSpPr>
        <p:spPr>
          <a:xfrm>
            <a:off x="294552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10"/>
          <p:cNvSpPr/>
          <p:nvPr/>
        </p:nvSpPr>
        <p:spPr>
          <a:xfrm>
            <a:off x="518724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11"/>
          <p:cNvSpPr/>
          <p:nvPr/>
        </p:nvSpPr>
        <p:spPr>
          <a:xfrm>
            <a:off x="73494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右箭头 12"/>
          <p:cNvGrpSpPr/>
          <p:nvPr/>
        </p:nvGrpSpPr>
        <p:grpSpPr>
          <a:xfrm>
            <a:off x="2077920" y="3676680"/>
            <a:ext cx="731880" cy="755640"/>
            <a:chOff x="2077920" y="3676680"/>
            <a:chExt cx="731880" cy="755640"/>
          </a:xfrm>
        </p:grpSpPr>
        <p:pic>
          <p:nvPicPr>
            <p:cNvPr id="740" name="右箭头 12" descr=""/>
            <p:cNvPicPr/>
            <p:nvPr/>
          </p:nvPicPr>
          <p:blipFill>
            <a:blip r:embed="rId5"/>
            <a:stretch/>
          </p:blipFill>
          <p:spPr>
            <a:xfrm>
              <a:off x="2077920" y="3676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214164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右箭头 13"/>
          <p:cNvGrpSpPr/>
          <p:nvPr/>
        </p:nvGrpSpPr>
        <p:grpSpPr>
          <a:xfrm>
            <a:off x="4254480" y="3676680"/>
            <a:ext cx="725400" cy="755640"/>
            <a:chOff x="4254480" y="3676680"/>
            <a:chExt cx="725400" cy="755640"/>
          </a:xfrm>
        </p:grpSpPr>
        <p:pic>
          <p:nvPicPr>
            <p:cNvPr id="743" name="右箭头 13" descr=""/>
            <p:cNvPicPr/>
            <p:nvPr/>
          </p:nvPicPr>
          <p:blipFill>
            <a:blip r:embed="rId6"/>
            <a:stretch/>
          </p:blipFill>
          <p:spPr>
            <a:xfrm>
              <a:off x="4254480" y="3676680"/>
              <a:ext cx="7254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4313160" y="3873600"/>
              <a:ext cx="460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右箭头 14"/>
          <p:cNvGrpSpPr/>
          <p:nvPr/>
        </p:nvGrpSpPr>
        <p:grpSpPr>
          <a:xfrm>
            <a:off x="6456240" y="3676680"/>
            <a:ext cx="730440" cy="755640"/>
            <a:chOff x="6456240" y="3676680"/>
            <a:chExt cx="730440" cy="755640"/>
          </a:xfrm>
        </p:grpSpPr>
        <p:pic>
          <p:nvPicPr>
            <p:cNvPr id="746" name="右箭头 14" descr=""/>
            <p:cNvPicPr/>
            <p:nvPr/>
          </p:nvPicPr>
          <p:blipFill>
            <a:blip r:embed="rId7"/>
            <a:stretch/>
          </p:blipFill>
          <p:spPr>
            <a:xfrm>
              <a:off x="6456240" y="3676680"/>
              <a:ext cx="730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651996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等腰三角形 16"/>
          <p:cNvSpPr/>
          <p:nvPr/>
        </p:nvSpPr>
        <p:spPr>
          <a:xfrm>
            <a:off x="900000" y="5229360"/>
            <a:ext cx="71928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17"/>
          <p:cNvSpPr/>
          <p:nvPr/>
        </p:nvSpPr>
        <p:spPr>
          <a:xfrm>
            <a:off x="1763640" y="551664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原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不送至扫描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DDB2D-C060-4AA1-B9EB-EAC39AA77FC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5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粘贴条码后，发现答题卡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有印刷错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圆角矩形 4"/>
          <p:cNvGrpSpPr/>
          <p:nvPr/>
        </p:nvGrpSpPr>
        <p:grpSpPr>
          <a:xfrm>
            <a:off x="480960" y="3176640"/>
            <a:ext cx="1701720" cy="1620720"/>
            <a:chOff x="480960" y="3176640"/>
            <a:chExt cx="1701720" cy="1620720"/>
          </a:xfrm>
        </p:grpSpPr>
        <p:pic>
          <p:nvPicPr>
            <p:cNvPr id="752" name="圆角矩形 4" descr=""/>
            <p:cNvPicPr/>
            <p:nvPr/>
          </p:nvPicPr>
          <p:blipFill>
            <a:blip r:embed="rId1"/>
            <a:stretch/>
          </p:blipFill>
          <p:spPr>
            <a:xfrm>
              <a:off x="480960" y="3176640"/>
              <a:ext cx="17017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61596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圆角矩形 5"/>
          <p:cNvGrpSpPr/>
          <p:nvPr/>
        </p:nvGrpSpPr>
        <p:grpSpPr>
          <a:xfrm>
            <a:off x="2603520" y="3176640"/>
            <a:ext cx="1859040" cy="1620720"/>
            <a:chOff x="2603520" y="3176640"/>
            <a:chExt cx="1859040" cy="1620720"/>
          </a:xfrm>
        </p:grpSpPr>
        <p:pic>
          <p:nvPicPr>
            <p:cNvPr id="755" name="圆角矩形 5" descr=""/>
            <p:cNvPicPr/>
            <p:nvPr/>
          </p:nvPicPr>
          <p:blipFill>
            <a:blip r:embed="rId2"/>
            <a:stretch/>
          </p:blipFill>
          <p:spPr>
            <a:xfrm>
              <a:off x="2603520" y="317664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28004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圆角矩形 6"/>
          <p:cNvGrpSpPr/>
          <p:nvPr/>
        </p:nvGrpSpPr>
        <p:grpSpPr>
          <a:xfrm>
            <a:off x="4784760" y="3176640"/>
            <a:ext cx="1860480" cy="1620720"/>
            <a:chOff x="4784760" y="3176640"/>
            <a:chExt cx="1860480" cy="1620720"/>
          </a:xfrm>
        </p:grpSpPr>
        <p:pic>
          <p:nvPicPr>
            <p:cNvPr id="75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4784760" y="317664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4984920" y="3286080"/>
              <a:ext cx="14364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圆角矩形 7"/>
          <p:cNvGrpSpPr/>
          <p:nvPr/>
        </p:nvGrpSpPr>
        <p:grpSpPr>
          <a:xfrm>
            <a:off x="7034040" y="3176640"/>
            <a:ext cx="1702080" cy="1620720"/>
            <a:chOff x="7034040" y="3176640"/>
            <a:chExt cx="1702080" cy="1620720"/>
          </a:xfrm>
        </p:grpSpPr>
        <p:pic>
          <p:nvPicPr>
            <p:cNvPr id="761" name="圆角矩形 7" descr=""/>
            <p:cNvPicPr/>
            <p:nvPr/>
          </p:nvPicPr>
          <p:blipFill>
            <a:blip r:embed="rId4"/>
            <a:stretch/>
          </p:blipFill>
          <p:spPr>
            <a:xfrm>
              <a:off x="7034040" y="317664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71690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TextBox 8"/>
          <p:cNvSpPr/>
          <p:nvPr/>
        </p:nvSpPr>
        <p:spPr>
          <a:xfrm>
            <a:off x="9586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9"/>
          <p:cNvSpPr/>
          <p:nvPr/>
        </p:nvSpPr>
        <p:spPr>
          <a:xfrm>
            <a:off x="294552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10"/>
          <p:cNvSpPr/>
          <p:nvPr/>
        </p:nvSpPr>
        <p:spPr>
          <a:xfrm>
            <a:off x="518724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11"/>
          <p:cNvSpPr/>
          <p:nvPr/>
        </p:nvSpPr>
        <p:spPr>
          <a:xfrm>
            <a:off x="73494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右箭头 12"/>
          <p:cNvGrpSpPr/>
          <p:nvPr/>
        </p:nvGrpSpPr>
        <p:grpSpPr>
          <a:xfrm>
            <a:off x="2077920" y="3676680"/>
            <a:ext cx="731880" cy="755640"/>
            <a:chOff x="2077920" y="3676680"/>
            <a:chExt cx="731880" cy="755640"/>
          </a:xfrm>
        </p:grpSpPr>
        <p:pic>
          <p:nvPicPr>
            <p:cNvPr id="768" name="右箭头 12" descr=""/>
            <p:cNvPicPr/>
            <p:nvPr/>
          </p:nvPicPr>
          <p:blipFill>
            <a:blip r:embed="rId5"/>
            <a:stretch/>
          </p:blipFill>
          <p:spPr>
            <a:xfrm>
              <a:off x="2077920" y="3676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214164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右箭头 13"/>
          <p:cNvGrpSpPr/>
          <p:nvPr/>
        </p:nvGrpSpPr>
        <p:grpSpPr>
          <a:xfrm>
            <a:off x="4254480" y="3676680"/>
            <a:ext cx="725400" cy="755640"/>
            <a:chOff x="4254480" y="3676680"/>
            <a:chExt cx="725400" cy="755640"/>
          </a:xfrm>
        </p:grpSpPr>
        <p:pic>
          <p:nvPicPr>
            <p:cNvPr id="771" name="右箭头 13" descr=""/>
            <p:cNvPicPr/>
            <p:nvPr/>
          </p:nvPicPr>
          <p:blipFill>
            <a:blip r:embed="rId6"/>
            <a:stretch/>
          </p:blipFill>
          <p:spPr>
            <a:xfrm>
              <a:off x="4254480" y="3676680"/>
              <a:ext cx="7254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4313160" y="3873600"/>
              <a:ext cx="460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右箭头 14"/>
          <p:cNvGrpSpPr/>
          <p:nvPr/>
        </p:nvGrpSpPr>
        <p:grpSpPr>
          <a:xfrm>
            <a:off x="6456240" y="3676680"/>
            <a:ext cx="730440" cy="755640"/>
            <a:chOff x="6456240" y="3676680"/>
            <a:chExt cx="730440" cy="755640"/>
          </a:xfrm>
        </p:grpSpPr>
        <p:pic>
          <p:nvPicPr>
            <p:cNvPr id="774" name="右箭头 14" descr=""/>
            <p:cNvPicPr/>
            <p:nvPr/>
          </p:nvPicPr>
          <p:blipFill>
            <a:blip r:embed="rId7"/>
            <a:stretch/>
          </p:blipFill>
          <p:spPr>
            <a:xfrm>
              <a:off x="6456240" y="3676680"/>
              <a:ext cx="730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651996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等腰三角形 16"/>
          <p:cNvSpPr/>
          <p:nvPr/>
        </p:nvSpPr>
        <p:spPr>
          <a:xfrm>
            <a:off x="826920" y="5373720"/>
            <a:ext cx="72072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7"/>
          <p:cNvSpPr/>
          <p:nvPr/>
        </p:nvSpPr>
        <p:spPr>
          <a:xfrm>
            <a:off x="1547640" y="5589720"/>
            <a:ext cx="66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（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）条形码在原有答题卡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（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2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）考生在备用答题卡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上作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E413A-4ADC-4F48-8381-5F67336B669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Box 4"/>
          <p:cNvSpPr/>
          <p:nvPr/>
        </p:nvSpPr>
        <p:spPr>
          <a:xfrm>
            <a:off x="900000" y="981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易发生异常情况时间</a:t>
            </a:r>
            <a:r>
              <a:rPr b="1" lang="en-US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B</a:t>
            </a: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：</a:t>
            </a:r>
            <a:r>
              <a:rPr b="1" lang="zh-CN" sz="20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考生打开试题册，开始作答试题册上题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5" descr="C:\Users\Administrator\AppData\Roaming\Tencent\Users\2411221069\QQ\WinTemp\RichOle\V@VCX{$B@WME6%~MCE8G_FX.jpg"/>
          <p:cNvPicPr/>
          <p:nvPr/>
        </p:nvPicPr>
        <p:blipFill>
          <a:blip r:embed="rId1"/>
          <a:stretch/>
        </p:blipFill>
        <p:spPr>
          <a:xfrm>
            <a:off x="396720" y="836640"/>
            <a:ext cx="596880" cy="566640"/>
          </a:xfrm>
          <a:prstGeom prst="rect">
            <a:avLst/>
          </a:prstGeom>
          <a:ln w="0">
            <a:noFill/>
          </a:ln>
        </p:spPr>
      </p:pic>
      <p:sp>
        <p:nvSpPr>
          <p:cNvPr id="780" name="云形标注 6"/>
          <p:cNvSpPr/>
          <p:nvPr/>
        </p:nvSpPr>
        <p:spPr>
          <a:xfrm rot="21393000">
            <a:off x="396720" y="1506600"/>
            <a:ext cx="3851280" cy="148572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B01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考生打开打开试题册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且开始作答，试题册有印刷错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圆角矩形 7"/>
          <p:cNvGrpSpPr/>
          <p:nvPr/>
        </p:nvGrpSpPr>
        <p:grpSpPr>
          <a:xfrm>
            <a:off x="407880" y="3681360"/>
            <a:ext cx="1702080" cy="1622520"/>
            <a:chOff x="407880" y="3681360"/>
            <a:chExt cx="1702080" cy="1622520"/>
          </a:xfrm>
        </p:grpSpPr>
        <p:pic>
          <p:nvPicPr>
            <p:cNvPr id="782" name="圆角矩形 7" descr=""/>
            <p:cNvPicPr/>
            <p:nvPr/>
          </p:nvPicPr>
          <p:blipFill>
            <a:blip r:embed="rId2"/>
            <a:stretch/>
          </p:blipFill>
          <p:spPr>
            <a:xfrm>
              <a:off x="407880" y="3681360"/>
              <a:ext cx="1702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54144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圆角矩形 8"/>
          <p:cNvGrpSpPr/>
          <p:nvPr/>
        </p:nvGrpSpPr>
        <p:grpSpPr>
          <a:xfrm>
            <a:off x="2530440" y="3681360"/>
            <a:ext cx="1859040" cy="1622520"/>
            <a:chOff x="2530440" y="3681360"/>
            <a:chExt cx="1859040" cy="1622520"/>
          </a:xfrm>
        </p:grpSpPr>
        <p:pic>
          <p:nvPicPr>
            <p:cNvPr id="785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530440" y="3681360"/>
              <a:ext cx="18590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272556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圆角矩形 9"/>
          <p:cNvGrpSpPr/>
          <p:nvPr/>
        </p:nvGrpSpPr>
        <p:grpSpPr>
          <a:xfrm>
            <a:off x="4711680" y="3681360"/>
            <a:ext cx="1860480" cy="1622520"/>
            <a:chOff x="4711680" y="3681360"/>
            <a:chExt cx="1860480" cy="1622520"/>
          </a:xfrm>
        </p:grpSpPr>
        <p:pic>
          <p:nvPicPr>
            <p:cNvPr id="788" name="圆角矩形 9" descr=""/>
            <p:cNvPicPr/>
            <p:nvPr/>
          </p:nvPicPr>
          <p:blipFill>
            <a:blip r:embed="rId4"/>
            <a:stretch/>
          </p:blipFill>
          <p:spPr>
            <a:xfrm>
              <a:off x="4711680" y="3681360"/>
              <a:ext cx="18604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491004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圆角矩形 10"/>
          <p:cNvGrpSpPr/>
          <p:nvPr/>
        </p:nvGrpSpPr>
        <p:grpSpPr>
          <a:xfrm>
            <a:off x="6961320" y="3681360"/>
            <a:ext cx="1695240" cy="1622520"/>
            <a:chOff x="6961320" y="3681360"/>
            <a:chExt cx="1695240" cy="1622520"/>
          </a:xfrm>
        </p:grpSpPr>
        <p:pic>
          <p:nvPicPr>
            <p:cNvPr id="791" name="圆角矩形 10" descr=""/>
            <p:cNvPicPr/>
            <p:nvPr/>
          </p:nvPicPr>
          <p:blipFill>
            <a:blip r:embed="rId5"/>
            <a:stretch/>
          </p:blipFill>
          <p:spPr>
            <a:xfrm>
              <a:off x="6961320" y="3681360"/>
              <a:ext cx="16952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709452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Box 11"/>
          <p:cNvSpPr/>
          <p:nvPr/>
        </p:nvSpPr>
        <p:spPr>
          <a:xfrm>
            <a:off x="88380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2"/>
          <p:cNvSpPr/>
          <p:nvPr/>
        </p:nvSpPr>
        <p:spPr>
          <a:xfrm>
            <a:off x="2871000" y="3141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511200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4"/>
          <p:cNvSpPr/>
          <p:nvPr/>
        </p:nvSpPr>
        <p:spPr>
          <a:xfrm>
            <a:off x="727488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右箭头 15"/>
          <p:cNvGrpSpPr/>
          <p:nvPr/>
        </p:nvGrpSpPr>
        <p:grpSpPr>
          <a:xfrm>
            <a:off x="2004840" y="4175280"/>
            <a:ext cx="725760" cy="761760"/>
            <a:chOff x="2004840" y="4175280"/>
            <a:chExt cx="725760" cy="761760"/>
          </a:xfrm>
        </p:grpSpPr>
        <p:pic>
          <p:nvPicPr>
            <p:cNvPr id="798" name="右箭头 15" descr=""/>
            <p:cNvPicPr/>
            <p:nvPr/>
          </p:nvPicPr>
          <p:blipFill>
            <a:blip r:embed="rId6"/>
            <a:stretch/>
          </p:blipFill>
          <p:spPr>
            <a:xfrm>
              <a:off x="2004840" y="4175280"/>
              <a:ext cx="725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2066760" y="4376880"/>
              <a:ext cx="459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右箭头 16"/>
          <p:cNvGrpSpPr/>
          <p:nvPr/>
        </p:nvGrpSpPr>
        <p:grpSpPr>
          <a:xfrm>
            <a:off x="4175280" y="4175280"/>
            <a:ext cx="731520" cy="761760"/>
            <a:chOff x="4175280" y="4175280"/>
            <a:chExt cx="731520" cy="761760"/>
          </a:xfrm>
        </p:grpSpPr>
        <p:pic>
          <p:nvPicPr>
            <p:cNvPr id="801" name="右箭头 16" descr=""/>
            <p:cNvPicPr/>
            <p:nvPr/>
          </p:nvPicPr>
          <p:blipFill>
            <a:blip r:embed="rId7"/>
            <a:stretch/>
          </p:blipFill>
          <p:spPr>
            <a:xfrm>
              <a:off x="4175280" y="4175280"/>
              <a:ext cx="7315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/>
            <p:cNvSpPr/>
            <p:nvPr/>
          </p:nvSpPr>
          <p:spPr>
            <a:xfrm>
              <a:off x="4238640" y="437688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右箭头 17"/>
          <p:cNvGrpSpPr/>
          <p:nvPr/>
        </p:nvGrpSpPr>
        <p:grpSpPr>
          <a:xfrm>
            <a:off x="6381720" y="4175280"/>
            <a:ext cx="731880" cy="761760"/>
            <a:chOff x="6381720" y="4175280"/>
            <a:chExt cx="731880" cy="761760"/>
          </a:xfrm>
        </p:grpSpPr>
        <p:pic>
          <p:nvPicPr>
            <p:cNvPr id="804" name="右箭头 17" descr=""/>
            <p:cNvPicPr/>
            <p:nvPr/>
          </p:nvPicPr>
          <p:blipFill>
            <a:blip r:embed="rId8"/>
            <a:stretch/>
          </p:blipFill>
          <p:spPr>
            <a:xfrm>
              <a:off x="6381720" y="4175280"/>
              <a:ext cx="73188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6443640" y="437688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等腰三角形 18"/>
          <p:cNvSpPr/>
          <p:nvPr/>
        </p:nvSpPr>
        <p:spPr>
          <a:xfrm>
            <a:off x="826920" y="5589720"/>
            <a:ext cx="72072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9"/>
          <p:cNvSpPr/>
          <p:nvPr/>
        </p:nvSpPr>
        <p:spPr>
          <a:xfrm>
            <a:off x="1403280" y="5805360"/>
            <a:ext cx="75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监考教师须在答题卡袋面上说明两套题目的有效作答范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89FF93-DC97-4F2A-ACBB-C5A16DD2B39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5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关于宣传工作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68000" y="1484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本次听力考试时间为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钟，听力录音结束后，监考教师将立即回收答题卡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，请考生做好相关应考准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向考生再次强调以下几种违规行为，即出现以下行为将按零分处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正确填写（涂）个人信息，错贴、不贴、毁损条形码粘贴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按规定翻阅试题册、提前阅读试题、提前或在收答题卡期间作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用所规定的笔作答、折叠或毁损答题卡导致无法评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试期间在非听力考试时间佩戴耳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68EB5E-4A31-461B-95E4-79197089915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Box 3"/>
          <p:cNvSpPr/>
          <p:nvPr/>
        </p:nvSpPr>
        <p:spPr>
          <a:xfrm>
            <a:off x="2195640" y="278136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演示结束，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23F7D4-61B6-4B8F-8E40-BBC0C0FCDC1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领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上午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8:10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（安吉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8:20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），下午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：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，到考场所在的教学区设置的领卷点领卷报到领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每个考场的两位监考人员到齐后同时领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到达领卷点并签到才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小和山校区主考办公室下设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，安吉校区主考办公室下设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试题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答题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考务袋（内有：</a:t>
            </a:r>
            <a:r>
              <a:rPr b="0" lang="zh-CN" sz="2400" spc="-1" strike="noStrike">
                <a:solidFill>
                  <a:srgbClr val="f92f1f"/>
                </a:solidFill>
                <a:latin typeface="黑体"/>
                <a:ea typeface="黑体"/>
              </a:rPr>
              <a:t>多媒体卡、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清单、监考证、考场号、考生名单、考场记录单、胶水、小刀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回卷：试卷回到领卷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检查袋封上的考场号与自己的考场是否相符，检查袋口是否完好，并在袋上签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EB665-C08C-40DF-AA4D-5DEA80AFED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考场布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领卷后两位监考老师试卷直入考场开始布置考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在考场门口贴好考场号（插在教室门口的塑料牌中或粘贴在墙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检查是否彻底清场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92f1f"/>
                </a:solidFill>
                <a:latin typeface="黑体"/>
                <a:ea typeface="黑体"/>
              </a:rPr>
              <a:t>打开多媒体，进</a:t>
            </a:r>
            <a:r>
              <a:rPr b="0" lang="en-US" sz="2400" spc="-1" strike="noStrike">
                <a:solidFill>
                  <a:srgbClr val="f92f1f"/>
                </a:solidFill>
                <a:latin typeface="黑体"/>
                <a:ea typeface="黑体"/>
              </a:rPr>
              <a:t>win7</a:t>
            </a:r>
            <a:r>
              <a:rPr b="0" lang="zh-CN" sz="2400" spc="-1" strike="noStrike">
                <a:solidFill>
                  <a:srgbClr val="f92f1f"/>
                </a:solidFill>
                <a:latin typeface="黑体"/>
                <a:ea typeface="黑体"/>
              </a:rPr>
              <a:t>操作系统，打开桌面上的“英语</a:t>
            </a:r>
            <a:r>
              <a:rPr b="0" lang="en-US" sz="2400" spc="-1" strike="noStrike">
                <a:solidFill>
                  <a:srgbClr val="f92f1f"/>
                </a:solidFill>
                <a:latin typeface="黑体"/>
                <a:ea typeface="黑体"/>
              </a:rPr>
              <a:t>46</a:t>
            </a:r>
            <a:r>
              <a:rPr b="0" lang="zh-CN" sz="2400" spc="-1" strike="noStrike">
                <a:solidFill>
                  <a:srgbClr val="f92f1f"/>
                </a:solidFill>
                <a:latin typeface="黑体"/>
                <a:ea typeface="黑体"/>
              </a:rPr>
              <a:t>级考试考场板书</a:t>
            </a:r>
            <a:r>
              <a:rPr b="0" lang="en-US" sz="2400" spc="-1" strike="noStrike">
                <a:solidFill>
                  <a:srgbClr val="f92f1f"/>
                </a:solidFill>
                <a:latin typeface="黑体"/>
                <a:ea typeface="黑体"/>
              </a:rPr>
              <a:t>PPT”</a:t>
            </a:r>
            <a:r>
              <a:rPr b="0" lang="zh-CN" sz="2400" spc="-1" strike="noStrike">
                <a:solidFill>
                  <a:srgbClr val="f92f1f"/>
                </a:solidFill>
                <a:latin typeface="黑体"/>
                <a:ea typeface="黑体"/>
              </a:rPr>
              <a:t>，双击桌面上的时钟，点右键前段显示时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根据座位安排表在考试位上方贴上座位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本次考试四六级，采用多题多卷，粘贴条形码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;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三级分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AB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D5212-5C0B-45AC-A0D1-25BC7381FD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20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考生入场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4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）分铃响之后放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先检查核对证件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再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入场（证件不全不得入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先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把带入考场的无关物品（包、书本、纸张、计算器、手机并关机等）放到讲台上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再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入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检查准考证号是否与座位号相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检查准考证与学生证或身份证是否相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要求学生在考场座位核对表照片旁签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发现问题及时纠正或报告主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试卷当众启封，请务必保管好封条，仅此一份，没有多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宣布考场纪律及考试注意事项 （全文宣读考场规则和考生守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禁止迟到考生入场：上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后，下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后，禁止考生入场，如有异常，及时联系考务办公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考后收回多媒体卡，放入考务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40A09-A756-4545-ADDE-29BA4220C0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620640"/>
            <a:ext cx="85122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考试过程与浙江省考试院联网，全程监控，监考教师严禁携带手机、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ipad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等通讯、上网、拍摄设备进入考场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（手机等放入准备好的信封   进行密封）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调出电脑上时钟查看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:00(15:00)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教师发放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、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和试题册，发试题册时要背面向上放到考生桌子左上角，并要求考生不得提前翻阅或改变试卷位置，否则按违规违纪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员甲提示考生仔细阅读试题册上的“敬告考生”，并指导考生将试题册背面上的条形码揭下后粘贴在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的条形码粘贴框内并填写（涂）试题册封底、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和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上的学校名称、姓名及准考证号等信息。要求考生将相关信息填写完整后，将试题册背面向上放回至桌子左上角。提示考生试题册未按要求放置或提前翻阅试题册，均按违规处理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: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）正式开考后，监考教师要注意核验证件及检查考生填涂信息、粘贴条形码是否规范 。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0: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6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）收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后，再次检查条形码情况，并填写好答题卡一的相关资料，等待考务人员来清点收取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不得擅自动用缺考学生的试题册和答题卡。缺考答题卡不用贴条形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▲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教育考试院新要求：（一定要告知考生）考试全过程考生不得离场（身体不适等情况由监考教师陪同到考务办公室） ，考试中途离场的，一律按违规处理，成绩作零分。 ▲</a:t>
            </a:r>
            <a:r>
              <a:rPr b="1" lang="zh-CN" sz="2000" spc="-1" strike="noStrike" u="sng">
                <a:solidFill>
                  <a:srgbClr val="f92f1f"/>
                </a:solidFill>
                <a:uFillTx/>
                <a:latin typeface="宋体"/>
              </a:rPr>
              <a:t>监考教师可以在考前提醒学生上厕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A8ED6-FCA7-41F0-A906-1198610627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05:13Z</dcterms:created>
  <dc:creator>LCS</dc:creator>
  <dc:description/>
  <dc:language>en-US</dc:language>
  <cp:lastModifiedBy>微软用户</cp:lastModifiedBy>
  <dcterms:modified xsi:type="dcterms:W3CDTF">2018-11-22T01:48:11Z</dcterms:modified>
  <cp:revision>1701</cp:revision>
  <dc:subject/>
  <dc:title>jwc</dc:title>
</cp:coreProperties>
</file>